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00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240" y="144756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576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00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240" y="3992400"/>
            <a:ext cx="276264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0000" y="1014480"/>
            <a:ext cx="7502400" cy="16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800" y="399240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800" y="1447560"/>
            <a:ext cx="418716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5760" y="3992400"/>
            <a:ext cx="8580600" cy="23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8200" y="6400800"/>
            <a:ext cx="8407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e75b8"/>
                </a:solidFill>
                <a:latin typeface="Arial"/>
              </a:rPr>
              <a:t>EME  European Month of Ergonomics 2012   –   Ergonomics for risk prevention   –   11.09.20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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en.eu/cen/Sectors/TechnicalCommitteesWorkshops/CENTechnicalCommittees/Pages/Standards.aspx?param=6104&amp;title=CEN/TC%20122" TargetMode="External"/><Relationship Id="rId2" Type="http://schemas.openxmlformats.org/officeDocument/2006/relationships/hyperlink" Target="http://www.cen.eu/cen/Sectors/TechnicalCommitteesWorkshops/CENTechnicalCommittees/Pages/Standards.aspx?param=6104&amp;title=CEN/TC%20122" TargetMode="External"/><Relationship Id="rId3" Type="http://schemas.openxmlformats.org/officeDocument/2006/relationships/hyperlink" Target="http://www.cen.eu/cen/Sectors/TechnicalCommitteesWorkshops/CENTechnicalCommittees/Pages/Standards.aspx?param=6104&amp;title=CEN/TC%20122" TargetMode="External"/><Relationship Id="rId4" Type="http://schemas.openxmlformats.org/officeDocument/2006/relationships/hyperlink" Target="http://www.cen.eu/cen/Sectors/TechnicalCommitteesWorkshops/CENTechnicalCommittees/Pages/Standards.aspx?param=6104&amp;title=CEN/TC%20122" TargetMode="External"/><Relationship Id="rId5" Type="http://schemas.openxmlformats.org/officeDocument/2006/relationships/hyperlink" Target="http://www.cen.eu/cen/Sectors/TechnicalCommitteesWorkshops/CENTechnicalCommittees/Pages/Standards.aspx?param=6104&amp;title=CEN/TC%20122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ndfonline.com/terg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martti.launis@ttl.f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ees-network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althy-workplaces.eu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es-network.org/" TargetMode="External"/><Relationship Id="rId2" Type="http://schemas.openxmlformats.org/officeDocument/2006/relationships/hyperlink" Target="http://www.iea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00" y="1014480"/>
            <a:ext cx="7502400" cy="366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6120" y="1523880"/>
            <a:ext cx="863928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b578b"/>
                </a:solidFill>
                <a:latin typeface="Arial"/>
              </a:rPr>
              <a:t>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European Month of Ergonomic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October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Ergonomics for risk pre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42900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3341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"Ergonomic risks" are related to poor design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 great many of the risks in the workplace can be attributed to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 design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ergonomic design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obs and t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physiological and psychological stress, to dissatisfaction, and to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ergonomic design of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hinery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human errors and to severe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ergonomic design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ysical work enviro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ghting, thermal, acoustic) can lead to various negative influences, directly on the human and also on the working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refore it is essential to influence the design of the product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production technology – this can be done in good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between the different personnel groups of th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"Ergonomic risks" need also to be continuously monitored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n the workplace many changes take place continuously –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ntinuous checking and improvements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ergonomics evalu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work activity and working environment is natural for the worker, who has best experience of his/her ow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rgonomics checkl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support and systemize the ergonomic evaluation of the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this require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ribution of the OHS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resentatives of management an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 to support these evaluations, and also to gather the experiences to make the needed improvements to the work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e75b8"/>
                </a:solidFill>
                <a:latin typeface="Arial"/>
              </a:rPr>
              <a:t>Ergonomics risk assessment is the responsibility of many  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ctually, risk assessment related to ergonomics has to be m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n many stages and by many actor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designers of the machinery and produc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ose who commission the system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y setting the requirements and by giving the necessary information from the design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buyers of the work equip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y acquiring e.g. ergonomic and usable working tools and other work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manag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require good working conditions, and who follow the realization of th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maintenance expe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o ensure that the workplace is functioning and continues to function as planned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33cc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By the OHS personnel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 part of their workplace surv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superviso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follow the work 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99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the work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o follow the safety instructions and make decisions on the ways to work in the new sit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articipatory ergonomics – </a:t>
            </a:r>
            <a:br>
              <a:rPr sz="2800"/>
            </a:b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a beneficial approach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orkers participation in design has many direct and in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nefit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ser's exper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ers' vi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bi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solution meets comprehensive requirements: production related, health and well-being related, safety relate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sign process i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arning process for both designers and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or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more motivated as operators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na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erted to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blems of the 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tart-up of the system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s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ows smooth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ewer retrospective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potential hazards and risks are identif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ring the 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identification and managing of the ri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asier for all in the changing situations at the work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articipatory ergonomics  </a:t>
            </a:r>
            <a:br>
              <a:rPr sz="2800"/>
            </a:b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requires various preconditions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759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Workers participation requires management, resources,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nd mea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ui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design sessions (a devoted leader/facilit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participative design sessions (time, pl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llustrative design meth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cenarios, graphical task descriptions, illustrative drawings, photos, vide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hods to discu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sign problem (e.g. various wall-board and group techniqu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01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hods and means to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signs (prototyping, improvised prototypes, utilization of existing work arrangeme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re are many roles and tasks for the managers, supervisor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OHS experts to support the participatory design process, an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organize the design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Participatory ergonomics</a:t>
            </a:r>
            <a:br>
              <a:rPr sz="2800"/>
            </a:b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– a sensitive skill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Workers participation requires extra skills to identify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kers tend to fav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ventional sol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ir choices, if they are not convinced of the 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kers'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perience is prac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x relationships between the causes and consequences is not always obvious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isks of gradual eff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.g. exposure of noise or stress or other factors that do not cause pain or discomfort may not be obvious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"non visible" haz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are the result of a complex process or multiple factors may not be obvious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 role of the leader/facilitator is to gather experience, investi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 design problem, guide the participants, and to devel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nsensus solutions in collaboration with them – truly a dem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and sensitive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Ergonomic guidelines are the basis for risk prevention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llaboration and participation is essential but not enough –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s guidelines are also needed for proper risk preventi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gonomics guidelines are presented in European ergonomics (and safe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gonomics design principles (EN 614-1, EN 614-2 and EN ISO 638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able postures and forces (EN-1005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hropometric workplace measurement (EN ISO 1473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openings, for the whole body and body parts (EN 547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 of information (EN 894-series, parts in 9241 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work activities in regard to human cognition (EN 894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work activities in order to control mental workload (EN ISO 10075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factors (lighting, temperature etc.) (e.g. EN 12464,  EN ISO 113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ageways and stairs (EN ISO 14122-se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re distributed by the national associations for standardiz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r the list of EN ergonomics standards, see als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cen.eu/cen/Sectors/TechnicalCommitteesWorkshops/CENTechnicalCommittees/Pages/Standards.aspx?param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=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6104&amp;title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CEN/TC%201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A step further: development of the design and management practices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86788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For consideration of humans and for creating good workpla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design practices need to be systematically improved, e.g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 go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duction system shoul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plicitly include consideration of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hould include all group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ffect the ergonomics quality of workplaces: from product designers (manufacturability) to various groups of production designers, managers, supervisors, OHS experts and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ormation concerning th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duction system should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group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vant ergonomics knowledge and guidel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easi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designers throughout the 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 metho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include, besides technical descriptions, als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isu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human work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edback from the functioning of the work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the results of the surveys of OHS personnel) should reach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on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e75b8"/>
                </a:solidFill>
                <a:latin typeface="Arial"/>
              </a:rPr>
              <a:t>Ergonomics in production design: good for the health and good for the business</a:t>
            </a:r>
            <a:endParaRPr b="1" lang="en-US" sz="24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plication of ergonomics in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production system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places can b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improved for both the op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the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action, motivation and commit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rat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e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ckness abs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disturbances and losses in produ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human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ss careles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ent op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ight operations in the correct way, with minimum 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need for corr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ter, less costs of lat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88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By recognition of both the health and business benefi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s the management can be justifiably engaged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comprehensive development of workplaces </a:t>
            </a:r>
            <a:r>
              <a:rPr b="1" lang="en-US" sz="1600" spc="-1" strike="noStrike" baseline="30000">
                <a:solidFill>
                  <a:srgbClr val="ff0101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Jan Dul, Ralph Bruder, Peter Buckle, Pascale Carayon, et al. (2012): A strategy for human factors/ergonomics: developing the discipline and profession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rgonom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12, DOI:10.1080/00140139.2012.661087, 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http://www.tandfonline.com/te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Experiences of the EME 2012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E 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lease gather information on the actions related to the EME (events, articles, initiatives, etc.) realized in your 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will be used to develop future EME campaigns and, to share the experiences within the national societies of the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76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PLEASE RE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to the Communication and Promotion Committee of the FEES,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ti Launis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martti.launis@ttl.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188928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What is EME ?       </a:t>
            </a:r>
            <a:endParaRPr b="1" lang="en-US" sz="36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7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uropean month of ergonomics</a:t>
            </a:r>
            <a:r>
              <a:rPr b="0" lang="en-US" sz="1800" spc="-1" strike="noStrike">
                <a:solidFill>
                  <a:srgbClr val="ac0056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yearly campaign for promotion of ergonomics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701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itiat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deration of European Ergonomics Societies, and implemented by the national ergonomics soc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w an official partner of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U-OS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uropean Agency for Safety and Health at 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 2012 </a:t>
            </a:r>
            <a:r>
              <a:rPr b="0" lang="en-US" sz="1800" spc="-1" strike="noStrike">
                <a:solidFill>
                  <a:srgbClr val="ac0056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 20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ort the yearly Healthy Workplace -campaign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2012-2013 the topic of this campaig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Working together for ris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ac0056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 20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s on the role of ergonomics in risk prevention, with the 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101"/>
                </a:solidFill>
                <a:latin typeface="Arial"/>
              </a:rPr>
              <a:t>Ergonomics for ris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Thank you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99640" y="1447560"/>
            <a:ext cx="720252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Let us work together for risk prevention – ergonomists together with OHS specialists and with the personnel of the workplac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Let us show the potential of ERGONOMICS in risk prev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ac0056"/>
                </a:solidFill>
                <a:latin typeface="Arial"/>
              </a:rPr>
              <a:t>Thank you for your inter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c005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S-campaign European Month of Ergonomics to promote ergonomics in Eur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S – Federation of European Ergonomics Societies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fees-network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b578b"/>
                </a:solidFill>
                <a:latin typeface="Arial"/>
              </a:rPr>
              <a:t>EU-OSHA campaign</a:t>
            </a: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       </a:t>
            </a:r>
            <a:r>
              <a:rPr b="1" lang="fi-FI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campaig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orking together for ris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irected to reduce the high number of work-related accidents and  diseases in the EU. According to yearly statistic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5500 people die as a result of accidents in the workpl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159 000 people die as a result of occupational disea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at least 450 million work days are 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-OSHA campa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or 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all personnel groups in enterprises to prevent risks in the workplace. The main elements of the campaign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To encourag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mana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how leadership in safety and health by genuinely consulting their workforce and by following best available risk preven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o encourag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wor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ir representatives to share ideas and to actively work with their managers to improve safety and health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information of the campaign, se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healthy-workplaces.e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115920"/>
            <a:ext cx="6494760" cy="792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ac0056"/>
                </a:solidFill>
                <a:latin typeface="Arial"/>
              </a:rPr>
              <a:t>EME 2012 - 2013       </a:t>
            </a:r>
            <a:r>
              <a:rPr b="1" lang="fi-FI" sz="17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5760" y="1413000"/>
            <a:ext cx="8580600" cy="49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year</a:t>
            </a:r>
            <a:r>
              <a:rPr b="1" lang="en-US" sz="1800" spc="-1" strike="noStrike">
                <a:solidFill>
                  <a:srgbClr val="0b578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 20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rod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topic, highlighting the role of ergonomics in ris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year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 20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focus is shifted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actical applic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earch and development projects, cases studies, method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im of the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o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encourage discu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and collabo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ergonomics experts, safety experts, occupational health and safety authorities, and personnel of the enterprises, to consider the </a:t>
            </a:r>
            <a:r>
              <a:rPr b="1" lang="en-US" sz="1800" spc="-1" strike="noStrike">
                <a:solidFill>
                  <a:srgbClr val="ff0101"/>
                </a:solidFill>
                <a:latin typeface="Arial"/>
              </a:rPr>
              <a:t>knowledge and methods of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is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2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pportive mate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ectures, training events, seminars or written articles to disseminate the message of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E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national member societies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What is ergonomics?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rgonomics provides the knowledge and skills for fitting the environment, equipment and activities to 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IE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finition of ergonomics, see 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1"/>
              </a:rPr>
              <a:t>www.fees-network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al aims are both to impro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ll-being of 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o enhanc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ductivity of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actical application of ergonomics, the following subfields are identifi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physical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.g. postures and movements, physical workload, manual material handling, workplac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cognitive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.g. information processing, mental workload, human-computer interface, applications for transmit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1125"/>
              </a:spcAft>
              <a:buClr>
                <a:srgbClr val="ac0056"/>
              </a:buClr>
              <a:buSzPct val="75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c0056"/>
                </a:solidFill>
                <a:latin typeface="Arial"/>
              </a:rPr>
              <a:t>organizational ergono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.g. consideration of work organization, work processes and working hours, development of work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ff0101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cs is a central discipline and development tool to create  good  work environments  -  and also to prevent risks in the workpla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rabicPlain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A – International Ergonomics Association, 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www.iea.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Ergonomics: human capabilities and human work activity in design</a:t>
            </a: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onomics focuses 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work 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pabilities of hum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it can provide a genuinely preventive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design and construction of our environment and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2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onomics is ideally appli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 all stages of design and re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is  contributes to the comprehensive and proper consideration of hum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t only retrospective correcting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4246560"/>
            <a:ext cx="37828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ac0056"/>
                </a:solidFill>
                <a:latin typeface="Arial"/>
              </a:rPr>
              <a:t>Ergonomics: collaboration and participation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of ergonomics means profou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laboration of all stakehol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workplace: the management, designers, OHS experts, supervisors and workers. A participatory and collaborative approach is presently seen as necessary to take all aspects of human activity and production into account.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is is parallel to the approach of the EU-OSHA campaig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ory ergonomics has for long been a central approach among ergonomists. </a:t>
            </a: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Ergonomists have experience which can be utilized in the EU-OSHA campaig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1280" y="4653000"/>
            <a:ext cx="432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Risks associated to ergonomics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6120" y="1447560"/>
            <a:ext cx="861696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Work activity which is not well suited to people's capabilities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lead to injuries and accidents, e.g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ysical over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heavy work, lifting) can lead to fatigue, strain injuries and to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etitive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or post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musculoskeletal disorders and to strain inju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00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ntal over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ead to psychological stress and to acc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2760" y="3860640"/>
            <a:ext cx="1298520" cy="23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48000" y="3860640"/>
            <a:ext cx="122868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14526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bfc"/>
            </a:gs>
            <a:gs pos="50000">
              <a:srgbClr val="a1c2de"/>
            </a:gs>
            <a:gs pos="100000">
              <a:srgbClr val="f9fb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e75b8"/>
                </a:solidFill>
                <a:latin typeface="Arial"/>
              </a:rPr>
              <a:t>Criteria for assessing work activity  </a:t>
            </a:r>
            <a:endParaRPr b="1" lang="en-US" sz="2800" spc="-1" strike="noStrike">
              <a:solidFill>
                <a:srgbClr val="0e75b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5760" y="1447560"/>
            <a:ext cx="8580600" cy="48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The basic criteria for assessing the work activity in orde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101"/>
                </a:solidFill>
                <a:latin typeface="Arial"/>
              </a:rPr>
              <a:t>maintain the wellbeing of the worker ar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alth must not be impa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 characteristics must be within the normal range of the worker's size, strength and mental capabiliti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ing the physiological constraints (e.g. body measurements) and the psychological constraints (e.g. information processing) into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s must not make undue demands over the duration of a whole shift and ideally over the whole working lif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both the gradual effects of adverse factors (e.g. heavy physical load or psychological stress) and the ageing of the workforce into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s should facilitate the scope for professional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compete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125"/>
              </a:spcAft>
              <a:buClr>
                <a:srgbClr val="0000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tasks should be designed and developed in collaboration with the work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8T10:38:22Z</dcterms:created>
  <dc:creator>Dietmar Gude</dc:creator>
  <dc:description/>
  <dc:language>en-US</dc:language>
  <cp:lastModifiedBy>rtoi</cp:lastModifiedBy>
  <dcterms:modified xsi:type="dcterms:W3CDTF">2012-09-11T12:05:37Z</dcterms:modified>
  <cp:revision>309</cp:revision>
  <dc:subject/>
  <dc:title>Map of Germany</dc:title>
</cp:coreProperties>
</file>