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68200" y="6400800"/>
            <a:ext cx="8407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EME  European Month of Ergonomics 2013   –   Ergonomics for risk prevention   –   08.07.20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en.eu/cen/Sectors/TechnicalCommitteesWorkshops/CENTechnicalCommittees/Pages/Standards.aspx?param=6104&amp;title=CEN/TC%20122" TargetMode="External"/><Relationship Id="rId2" Type="http://schemas.openxmlformats.org/officeDocument/2006/relationships/hyperlink" Target="http://www.cen.eu/cen/Sectors/TechnicalCommitteesWorkshops/CENTechnicalCommittees/Pages/Standards.aspx?param=6104&amp;title=CEN/TC%20122" TargetMode="External"/><Relationship Id="rId3" Type="http://schemas.openxmlformats.org/officeDocument/2006/relationships/hyperlink" Target="http://www.cen.eu/cen/Sectors/TechnicalCommitteesWorkshops/CENTechnicalCommittees/Pages/Standards.aspx?param=6104&amp;title=CEN/TC%20122" TargetMode="External"/><Relationship Id="rId4" Type="http://schemas.openxmlformats.org/officeDocument/2006/relationships/hyperlink" Target="http://www.cen.eu/cen/Sectors/TechnicalCommitteesWorkshops/CENTechnicalCommittees/Pages/Standards.aspx?param=6104&amp;title=CEN/TC%20122" TargetMode="External"/><Relationship Id="rId5" Type="http://schemas.openxmlformats.org/officeDocument/2006/relationships/hyperlink" Target="http://www.cen.eu/cen/Sectors/TechnicalCommitteesWorkshops/CENTechnicalCommittees/Pages/Standards.aspx?param=6104&amp;title=CEN/TC%20122" TargetMode="External"/><Relationship Id="rId6" Type="http://schemas.openxmlformats.org/officeDocument/2006/relationships/hyperlink" Target="http://www.cen.eu/cen/Sectors/TechnicalCommitteesWorkshops/CENTechnicalCommittees/Pages/Standards.aspx?param=6104&amp;title=CEN/TC%20122" TargetMode="External"/><Relationship Id="rId7" Type="http://schemas.openxmlformats.org/officeDocument/2006/relationships/hyperlink" Target="http://www.cen.eu/cen/Sectors/TechnicalCommitteesWorkshops/CENTechnicalCommittees/Pages/Standards.aspx?param=6104&amp;title=CEN/TC%20122" TargetMode="External"/><Relationship Id="rId8" Type="http://schemas.openxmlformats.org/officeDocument/2006/relationships/hyperlink" Target="http://www.cen.eu/cen/Sectors/TechnicalCommitteesWorkshops/CENTechnicalCommittees/Pages/Standards.aspx?param=6104&amp;title=CEN/TC%20122" TargetMode="External"/><Relationship Id="rId9" Type="http://schemas.openxmlformats.org/officeDocument/2006/relationships/hyperlink" Target="http://www.cen.eu/cen/Sectors/TechnicalCommitteesWorkshops/CENTechnicalCommittees/Pages/Standards.aspx?param=6104&amp;title=CEN/TC%20122" TargetMode="External"/><Relationship Id="rId10" Type="http://schemas.openxmlformats.org/officeDocument/2006/relationships/hyperlink" Target="http://www.cen.eu/cen/Sectors/TechnicalCommitteesWorkshops/CENTechnicalCommittees/Pages/Standards.aspx?param=6104&amp;title=CEN/TC%20122" TargetMode="External"/><Relationship Id="rId11" Type="http://schemas.openxmlformats.org/officeDocument/2006/relationships/hyperlink" Target="http://www.cen.eu/cen/Sectors/TechnicalCommitteesWorkshops/CENTechnicalCommittees/Pages/Standards.aspx?param=6104&amp;title=CEN/TC%20122" TargetMode="External"/><Relationship Id="rId12" Type="http://schemas.openxmlformats.org/officeDocument/2006/relationships/hyperlink" Target="http://www.cen.eu/cen/Sectors/TechnicalCommitteesWorkshops/CENTechnicalCommittees/Pages/Standards.aspx?param=6104&amp;title=CEN/TC%20122" TargetMode="External"/><Relationship Id="rId13" Type="http://schemas.openxmlformats.org/officeDocument/2006/relationships/hyperlink" Target="http://www.cen.eu/cen/Sectors/TechnicalCommitteesWorkshops/CENTechnicalCommittees/Pages/Standards.aspx?param=6104&amp;title=CEN/TC%20122" TargetMode="External"/><Relationship Id="rId14" Type="http://schemas.openxmlformats.org/officeDocument/2006/relationships/hyperlink" Target="http://www.cen.eu/cen/Sectors/TechnicalCommitteesWorkshops/CENTechnicalCommittees/Pages/Standards.aspx?param=6104&amp;title=CEN/TC%20122" TargetMode="External"/><Relationship Id="rId15" Type="http://schemas.openxmlformats.org/officeDocument/2006/relationships/hyperlink" Target="http://www.cen.eu/cen/Sectors/TechnicalCommitteesWorkshops/CENTechnicalCommittees/Pages/Standards.aspx?param=6104&amp;title=CEN/TC%20122" TargetMode="External"/><Relationship Id="rId1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andfonline.com/te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martti.launis@ttl.fi" TargetMode="External"/><Relationship Id="rId2" Type="http://schemas.openxmlformats.org/officeDocument/2006/relationships/hyperlink" Target="mailto:martti.launis@ttl.fi" TargetMode="External"/><Relationship Id="rId3" Type="http://schemas.openxmlformats.org/officeDocument/2006/relationships/hyperlink" Target="mailto:martti.launis@ttl.fi" TargetMode="External"/><Relationship Id="rId4" Type="http://schemas.openxmlformats.org/officeDocument/2006/relationships/hyperlink" Target="mailto:martti.launis@ttl.fi" TargetMode="External"/><Relationship Id="rId5" Type="http://schemas.openxmlformats.org/officeDocument/2006/relationships/hyperlink" Target="mailto:martti.launis@ttl.fi" TargetMode="External"/><Relationship Id="rId6" Type="http://schemas.openxmlformats.org/officeDocument/2006/relationships/hyperlink" Target="mailto:martti.launis@ttl.fi" TargetMode="External"/><Relationship Id="rId7" Type="http://schemas.openxmlformats.org/officeDocument/2006/relationships/hyperlink" Target="mailto:martti.launis@ttl.fi" TargetMode="Externa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ealthy-workplaces.eu/" TargetMode="External"/><Relationship Id="rId2" Type="http://schemas.openxmlformats.org/officeDocument/2006/relationships/hyperlink" Target="http://www.healthy-workplaces.e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a.org/" TargetMode="External"/><Relationship Id="rId2" Type="http://schemas.openxmlformats.org/officeDocument/2006/relationships/hyperlink" Target="http://www.iea.org/" TargetMode="External"/><Relationship Id="rId3" Type="http://schemas.openxmlformats.org/officeDocument/2006/relationships/hyperlink" Target="http://www.iea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76120" y="1523880"/>
            <a:ext cx="8639280" cy="47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b578b"/>
                </a:solidFill>
                <a:latin typeface="Arial"/>
              </a:rPr>
              <a:t>European Month of Ergonomic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b578b"/>
                </a:solidFill>
                <a:latin typeface="Arial"/>
              </a:rPr>
              <a:t>October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Ergonomics for risk pre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his presentation is updated for the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rom the campaign material of the 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342900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3341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Criteria for assessing work activity 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e basic criteria for assessing the work activity in orde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maintain the wellbeing of the worker are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alth must not be impa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task characteristics must be within the normal range of the worker's size, strength and mental capabiliti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ing the physiological constraints (e.g. body measurements) and the psychological constraints (e.g. information processing) into ac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tasks must not make undue demands over the duration of a whole shift and ideally over the whole working lif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both the gradual effects of adverse factors (e.g. heavy physical load or psychological stress) and the ageing of the workforce into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tasks should facilitate the scope for professional 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 compete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tasks should be designed and developed in collaboration with the work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"Ergonomic risks" are related to poor design 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A great many of the risks in the workplace can be attributed to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ergonomic design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ergonomic design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obs and tas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ead to physiological and psychological stress, to dissatisfaction, and to acci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ergonomic design of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chinery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ead to human errors and to severe acci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ergonomic design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ysical work environ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ighting, thermal, acoustic) can lead to various negative influences, directly on the human and also on the working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erefore it is essential to influence the design of the production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production technology – this can be done in good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between the different personnel groups of the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"Ergonomic risks" need also to be continuously monitored 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In the workplace many changes take place continuously –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continuous checking and improvements ar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ergonomics evalu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work activity and working environment is natural for the worker, who has best experience of his/her ow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rgonomics checkl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support and systemize the ergonomic evaluation of the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this require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ribution of the OHS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resentatives of management an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 to support these evaluations, and also to gather the experiences to make the needed improvements to the work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e75b8"/>
                </a:solidFill>
                <a:latin typeface="Arial"/>
              </a:rPr>
              <a:t>Ergonomics risk assessment is the responsibility of many  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Actually, risk assessment related to ergonomics has to be m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in many stages and by many actor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e designers of the machinery and production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ose who commission the system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by setting the requirements and by giving the necessary information from the design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e buyers of the work equip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by acquiring e.g. ergonomic and usable working tools and other work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e manage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require good working conditions, and who follow the realization of th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e maintenance exper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o ensure that the workplace is functioning and continues to function as planned</a:t>
            </a:r>
            <a:r>
              <a:rPr b="0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33cc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By the OHS personnel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 part of their workplace surv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e superviso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follow the work da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e work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o follow the safety instructions and make decisions on the ways to work in the new sit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Participatory ergonomics – </a:t>
            </a:r>
            <a:br>
              <a:rPr sz="2800"/>
            </a:b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a beneficial approach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orkers participation in design has many direct and in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nefit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ser's exper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ers' vie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mbi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solution meets comprehensive requirements: production related, health and well-being related, safety relate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sign process i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earning process for both designers and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or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more motivated as operators of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nag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lerted to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blems of the 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mple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tart-up of the system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es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lows smooth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ewer retrospective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potential hazards and risks are identif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ring the desig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identification and managing of the ris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asier for all in the changing situations at the work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Participatory ergonomics  </a:t>
            </a:r>
            <a:br>
              <a:rPr sz="2800"/>
            </a:b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requires various preconditions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759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Workers participation requires management, resources,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and mea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uid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design sessions (a devoted leader/facilit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participative design sessions (time, pl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llustrative design metho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cenarios, graphical task descriptions, illustrative drawings, photos, vide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hods to discu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esign problem (e.g. various wall-board and group techniqu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hods and means to 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esigns (prototyping, improvised prototypes, utilization of existing work arrangemen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ere are many roles and tasks for the managers, supervisor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OHS experts to support the participatory design process, an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organize the design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Participatory ergonomics</a:t>
            </a:r>
            <a:br>
              <a:rPr sz="2800"/>
            </a:b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 – a sensitive skill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Workers participation requires extra skills to identify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problem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kers tend to fav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ventional sol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ir choices, if they are not convinced of the new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kers'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perience is pract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x relationships between the causes and consequences are not always obvious for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isks of gradual eff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.g. exposure of noise or stress or other factors that do not cause pain or discomfort may not be obvious for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"non visible" haza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are the result of a complex process or multiple factors may not be obvious for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e role of the leader/facilitator is to gather experience, investi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e design problem, guide the participants, and to devel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consensus solutions in collaboration with them – truly a dem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and sensitive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Ergonomic guidelines are the basis for risk prevention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867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Collaboration and participation is essential but not enough –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ergonomics guidelines are also needed for proper risk preventio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gonomics guidelines are presented in European ergonomics (and safe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gonomics design principles (EN 614-1, EN 614-2 and EN ISO 638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ptable postures and forces (EN-1005-se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hropometric workplace measurement (EN ISO 1473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openings, for the whole body and body parts (EN 547-se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ation of information (EN 894-series, parts in 9241 se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an work activities in regard to human cognition (EN 894-se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an work activities in order to control mental workload (EN ISO 10075-se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factors (lighting, temperature etc.) (e.g. EN 12464,  EN ISO 113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ageways and stairs (EN ISO 14122-se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are distributed by the national associations for standardiz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r the list of EN ergonomics standards, see als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cen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4"/>
              </a:rPr>
              <a:t>eu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5"/>
              </a:rPr>
              <a:t>/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6"/>
              </a:rPr>
              <a:t>cen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7"/>
              </a:rPr>
              <a:t>/Sectors/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8"/>
              </a:rPr>
              <a:t>TechnicalCommitteesWorkshops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10"/>
              </a:rPr>
              <a:t>CENTechnicalCommittees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11"/>
              </a:rPr>
              <a:t>/Pages/Standards.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12"/>
              </a:rPr>
              <a:t>aspx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13"/>
              </a:rPr>
              <a:t>?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14"/>
              </a:rPr>
              <a:t>param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15"/>
              </a:rPr>
              <a:t>=6104&amp;title=CEN/TC%201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A step further: development of the design and management practices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867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For consideration of humans and for creating good workplac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design practices need to be systematically improved, e.g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 go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oduction system shoul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plicitly include consideration of 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llabo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hould include all group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ffect the ergonomics quality of workplaces: from product designers (manufacturability) to various groups of production designers, managers, supervisors, OHS experts and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ormation concerning th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oduction system should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 groups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vant ergonomics knowledge and guidel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easi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designers throughout the desig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 metho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include, besides technical descriptions, als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isua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human work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eedback from the functioning of the work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 the results of the surveys of OHS personnel) should reach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pon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e75b8"/>
                </a:solidFill>
                <a:latin typeface="Arial"/>
              </a:rPr>
              <a:t>Ergonomics in production design: good for the health and good for the business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plication of ergonomics in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production system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places can b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improved for both the oper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the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isfaction, motivation and commit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rat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ew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ckness abs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disturbances and losses in produ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human 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ss careless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ent op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ight operations in the correct way, with minimum 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need for corre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ter, less costs of lat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88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By recognition of both the health and business benefi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ergonomics the management can be justifiably engaged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comprehensive development of workplaces </a:t>
            </a:r>
            <a:r>
              <a:rPr b="1" lang="en-US" sz="1600" spc="-1" strike="noStrike" baseline="30000">
                <a:solidFill>
                  <a:srgbClr val="ff0101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Jan Dul, Ralph Bruder, Peter Buckle, Pascale Carayon, et al. (2012): A strategy for human factors/ergonomics: developing the discipline and profession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rgonom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12, DOI:10.1080/00140139.2012.661087, </a:t>
            </a:r>
            <a:r>
              <a:rPr b="0" lang="en-US" sz="1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http://www.tandfonline.com/te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What is </a:t>
            </a:r>
            <a:r>
              <a:rPr b="1" lang="fi-FI" sz="3600" spc="-1" strike="noStrike">
                <a:solidFill>
                  <a:srgbClr val="ac0056"/>
                </a:solidFill>
                <a:latin typeface="Arial"/>
              </a:rPr>
              <a:t>European Month of Ergonomics</a:t>
            </a: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?       </a:t>
            </a:r>
            <a:endParaRPr b="1" lang="en-US" sz="36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5760" y="1413000"/>
            <a:ext cx="85806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2401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ac0056"/>
                </a:solidFill>
                <a:latin typeface="Arial"/>
              </a:rPr>
              <a:t>European Month of Ergonomics </a:t>
            </a:r>
            <a:r>
              <a:rPr b="0" lang="en-US" sz="1600" spc="-1" strike="noStrike">
                <a:solidFill>
                  <a:srgbClr val="ac005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ac0056"/>
                </a:solidFill>
                <a:latin typeface="Arial"/>
              </a:rPr>
              <a:t>EM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yearly campaign for promotion of ergonomics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2401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ac0056"/>
                </a:solidFill>
                <a:latin typeface="Arial"/>
              </a:rPr>
              <a:t>European Month of Ergonomic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initiated by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ES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ederation of European Ergonomics Societies, and implemented by the national ergonomics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deration of European Ergonomics Societie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now an official partner of th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U-OSH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European Agency for Safety and Health at Wor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ac0056"/>
                </a:solidFill>
                <a:latin typeface="Arial"/>
              </a:rPr>
              <a:t>European Month of Ergonomics 2012 </a:t>
            </a:r>
            <a:r>
              <a:rPr b="0" lang="en-US" sz="1600" spc="-1" strike="noStrike">
                <a:solidFill>
                  <a:srgbClr val="ac0056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ac0056"/>
                </a:solidFill>
                <a:latin typeface="Arial"/>
              </a:rPr>
              <a:t> 20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pport the yearly Healthy Workplace -campaign 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-OSHA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2012-2013 the topic of this campaign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Aft>
                <a:spcPts val="42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Working together for risk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ac0056"/>
                </a:solidFill>
                <a:latin typeface="Arial"/>
              </a:rPr>
              <a:t>European Month of Ergonomics 2012 and 201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es on the role of ergonomics in risk prevention, with the top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Aft>
                <a:spcPts val="35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101"/>
                </a:solidFill>
                <a:latin typeface="Arial"/>
              </a:rPr>
              <a:t>Ergonomics for risk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5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Month of Ergonomics 20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lease gather information on the actions related to the EME (events, articles, initiatives, etc.) realized in your coun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formation will be used to develop future European Month of Ergonomics campaigns and, to share the experiences within the national societies of the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76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PLEASE REPO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formation to the Communication and Promotion Committee of the FEES,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15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ti Launis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martti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launis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4"/>
              </a:rPr>
              <a:t>@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5"/>
              </a:rPr>
              <a:t>ttl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7"/>
              </a:rPr>
              <a:t>f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or Gyula Szabó met@dsgi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1889280"/>
            <a:ext cx="8569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e75b8"/>
                </a:solidFill>
                <a:latin typeface="Arial"/>
              </a:rPr>
              <a:t>Experiences of the European Month of Ergonomics 2013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Thank you 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9640" y="1447560"/>
            <a:ext cx="720252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Let us work together for risk prevention – ergonomists together with OHS specialists and with the personnel of the workplac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Let us show the potential of ERGONOMICS in risk preven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Thank you for your intere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c00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ES-campaign European Month of Ergonomics to promote ergonomics in Eur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S – Federation of European Ergonomics Soc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rgonomics-fees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76120" y="1447560"/>
            <a:ext cx="421344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 campaig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orking together for risk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irected to reduce the high number of work-related accidents and  diseases in the EU. According to yearly statistic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5500 people die as a result of accidents in the workpl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159 000 people die as a result of occupational disea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at least 450 million work days are 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ore information of the campaign, se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www.healthy-workplaces.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e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b578b"/>
                </a:solidFill>
                <a:latin typeface="Arial"/>
              </a:rPr>
              <a:t>EU-OSHA campaign</a:t>
            </a: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       </a:t>
            </a:r>
            <a:r>
              <a:rPr b="1" lang="fi-FI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1435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76120" y="1447560"/>
            <a:ext cx="421344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 campaig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or 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collabo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all personnel groups in enterprises to prevent risks in the workplace. The main elements of the campaign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To encourag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manag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how leadership in safety and health by genuinely consulting their workforce and by following best available risk prevention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o encourag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wor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ir representatives to share ideas and to actively work with their managers to improve safety and health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b578b"/>
                </a:solidFill>
                <a:latin typeface="Arial"/>
              </a:rPr>
              <a:t>EU-OSHA campaign</a:t>
            </a: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       </a:t>
            </a:r>
            <a:r>
              <a:rPr b="1" lang="fi-FI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WP_000462" descr=""/>
          <p:cNvPicPr/>
          <p:nvPr/>
        </p:nvPicPr>
        <p:blipFill>
          <a:blip r:embed="rId1"/>
          <a:stretch/>
        </p:blipFill>
        <p:spPr>
          <a:xfrm>
            <a:off x="5078520" y="1447920"/>
            <a:ext cx="33400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600" spc="-1" strike="noStrike">
                <a:solidFill>
                  <a:srgbClr val="ac0056"/>
                </a:solidFill>
                <a:latin typeface="Arial"/>
              </a:rPr>
              <a:t>European Month of Ergonomics </a:t>
            </a: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2012 - 2013       </a:t>
            </a:r>
            <a:r>
              <a:rPr b="1" lang="fi-FI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5760" y="1413000"/>
            <a:ext cx="85806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uropean Month of Ergonomics 20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mainly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rod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topic, highlighting the role of ergonomics in risk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year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uropean Month of Ergonomics 2013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cussion can be broadened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actical applic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search and development projects, cases studies, method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im of the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uropean Month of Ergonomics 20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o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encourage discu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and collabo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ergonomics experts, safety experts, occupational health and safety authorities, and personnel of the enterprises, to consider th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knowledge and methods of ergono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isk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upportive mate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lectures, training events, seminars or written articles to disseminate the message of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uropean Month of Ergonom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national member societies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deration of European Ergonomics Societie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What is ergonomics?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rgonomics provides the knowledge and skills for fitting the environment, equipment and activities to 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r IE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finition of ergonomics, see http://ergonomics-fees.eu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ual aims are both to impro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ell-being of 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o enhanc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ductivity of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actical application of ergonomics, the following subfields are identifi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1125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physical ergono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.g. postures and movements, physical workload, manual material handling, workplac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1125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cognitive ergono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.g. information processing, mental workload, human-computer interface, applications for transmit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1125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organizational ergono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.g. consideration of work organization, work processes and working hours, development of work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ff0101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Ergonomics is a central discipline and development tool to create  good  work environments  -  and also to prevent risks in the workpla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AutoNum type="arabicPlain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A – International Ergonomics Association, </a:t>
            </a:r>
            <a:r>
              <a:rPr b="0" lang="en-US" sz="1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4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iea</a:t>
            </a:r>
            <a:r>
              <a:rPr b="0" lang="en-US" sz="14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.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Ergonomics: human capabilities and human work activity in design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gonomics focuses 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work a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pabilities of hum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it can provide a genuinely preventive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design and construction of our environment and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gonomics is ideally appli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 all stages of design and rea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is  contributes to the comprehensive and proper consideration of hum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t only retrospective correcting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52480" y="3759120"/>
            <a:ext cx="50292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Ergonomics: collaboration and participation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of ergonomics means profou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llaboration of all stakehol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workplace: the management, designers, OHS experts, supervisors and workers. A participatory and collaborative approach is presently seen as necessary to take all aspects of human activity and production into account.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is is parallel to the approach of the EU-OSHA campaig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ory ergonomics has for long been a central approach among ergonomists.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Ergonomists have experience which can be utilized in the EU-OSHA campaig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556272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Risks associated to ergonomics 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447560"/>
            <a:ext cx="86169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Work activity which is not well suited to people's capabilities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lead to injuries and accidents, e.g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ysical over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 heavy work, lifting) can lead to fatigue, strain injuries and to acci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etitive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or pos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ead to musculoskeletal disorders and to strain inju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ntal over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ead to psychological stress and to acci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2760" y="3860640"/>
            <a:ext cx="1298520" cy="237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348000" y="3860640"/>
            <a:ext cx="1228680" cy="237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580000" y="3860640"/>
            <a:ext cx="14526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10:38:22Z</dcterms:created>
  <dc:creator>Dietmar Gude</dc:creator>
  <dc:description/>
  <dc:language>en-US</dc:language>
  <cp:lastModifiedBy>oem user</cp:lastModifiedBy>
  <dcterms:modified xsi:type="dcterms:W3CDTF">2013-07-08T08:45:02Z</dcterms:modified>
  <cp:revision>313</cp:revision>
  <dc:subject/>
  <dc:title>Map of Germany</dc:title>
</cp:coreProperties>
</file>