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move the slide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F650D3B3-3313-4067-9FBF-F271A34FD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A22E4FC5-A4D4-43B7-9F7E-78B7C7C65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2C2CFDF-93FD-4E18-AEE9-5BA298D5A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E371053-FA60-47BE-8F44-3E5D9A19F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02DC243-8BDC-4E22-B71F-55567CFCA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4A8-8F15-4432-8D7F-4B8FCD36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108-40FD-4A92-9670-C57995B6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F2E-CE7D-4D71-A478-5FC1795B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0AD-615C-4A0E-8FDF-C5125522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668-06F1-4A9F-AF00-2A5AC64B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5FA-627E-40FB-A252-BFE4D270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ECB-FC21-496B-9544-1653F13D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6D6-39BC-478E-BA2B-587F8834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15A-D977-4F24-A099-9242567C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FEB-8845-4EAE-98D6-402738D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D26-E074-4E69-A206-50CBCD12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2F0-E2C9-4BBA-A751-816C2968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hintergrund zugeschnitten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8200" y="6400800"/>
            <a:ext cx="9344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                           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EE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– Az ergonómia európai hónapja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201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3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  –   Ergon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ó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mi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 kockázat megelőzésé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Kép 5" descr=""/>
          <p:cNvPicPr/>
          <p:nvPr/>
        </p:nvPicPr>
        <p:blipFill>
          <a:blip r:embed="rId3"/>
          <a:stretch/>
        </p:blipFill>
        <p:spPr>
          <a:xfrm>
            <a:off x="7458120" y="147600"/>
            <a:ext cx="150660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56A9-A762-4E35-9298-DF7C6056432A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Kép 5" descr=""/>
          <p:cNvPicPr/>
          <p:nvPr/>
        </p:nvPicPr>
        <p:blipFill>
          <a:blip r:embed="rId2"/>
          <a:stretch/>
        </p:blipFill>
        <p:spPr>
          <a:xfrm>
            <a:off x="7458120" y="147600"/>
            <a:ext cx="150660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hintergrund zugeschnitten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268200" y="6400800"/>
            <a:ext cx="9344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                           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EE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– Az ergonómia európai hónapja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2012   –   Ergon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ó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mi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 kockázat megelőzésé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zövegdoboz 8"/>
          <p:cNvSpPr/>
          <p:nvPr/>
        </p:nvSpPr>
        <p:spPr>
          <a:xfrm>
            <a:off x="250920" y="6381720"/>
            <a:ext cx="8611920" cy="276480"/>
          </a:xfrm>
          <a:prstGeom prst="rect">
            <a:avLst/>
          </a:prstGeom>
          <a:solidFill>
            <a:srgbClr val="c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6699ff"/>
                </a:solidFill>
                <a:latin typeface="Arial"/>
              </a:rPr>
              <a:t>EEH</a:t>
            </a:r>
            <a:r>
              <a:rPr b="0" lang="hu-HU" sz="1200" spc="-1" strike="noStrike">
                <a:solidFill>
                  <a:srgbClr val="6699ff"/>
                </a:solidFill>
                <a:latin typeface="Arial"/>
              </a:rPr>
              <a:t>  - Az Ergonómia Európai Hónapja 2013 – Ergonómia a kockázat-megelőzésé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Kép 5" descr=""/>
          <p:cNvPicPr/>
          <p:nvPr/>
        </p:nvPicPr>
        <p:blipFill>
          <a:blip r:embed="rId3"/>
          <a:stretch/>
        </p:blipFill>
        <p:spPr>
          <a:xfrm>
            <a:off x="7493040" y="147600"/>
            <a:ext cx="1506600" cy="689040"/>
          </a:xfrm>
          <a:prstGeom prst="rect">
            <a:avLst/>
          </a:prstGeom>
          <a:ln w="12600">
            <a:solidFill>
              <a:srgbClr val="0070c0"/>
            </a:solidFill>
            <a:miter/>
          </a:ln>
        </p:spPr>
      </p:pic>
      <p:sp>
        <p:nvSpPr>
          <p:cNvPr id="87" name="Téglalap 10"/>
          <p:cNvSpPr/>
          <p:nvPr/>
        </p:nvSpPr>
        <p:spPr>
          <a:xfrm>
            <a:off x="7458120" y="147600"/>
            <a:ext cx="1506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hintergrund zugeschnitten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268200" y="6400800"/>
            <a:ext cx="9344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                           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EE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– Az ergonómia európai hónapja 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201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3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  –   Ergon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ó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mi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 </a:t>
            </a:r>
            <a:r>
              <a:rPr b="0" lang="hu-HU" sz="1300" spc="-1" strike="noStrike">
                <a:solidFill>
                  <a:srgbClr val="0e75b8"/>
                </a:solidFill>
                <a:latin typeface="Arial"/>
              </a:rPr>
              <a:t>a kockázat-megelőzésé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églalap 10"/>
          <p:cNvSpPr/>
          <p:nvPr/>
        </p:nvSpPr>
        <p:spPr>
          <a:xfrm>
            <a:off x="7458120" y="147600"/>
            <a:ext cx="1506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Kép 5" descr=""/>
          <p:cNvPicPr/>
          <p:nvPr/>
        </p:nvPicPr>
        <p:blipFill>
          <a:blip r:embed="rId3"/>
          <a:stretch/>
        </p:blipFill>
        <p:spPr>
          <a:xfrm>
            <a:off x="7458120" y="147600"/>
            <a:ext cx="1506600" cy="689040"/>
          </a:xfrm>
          <a:prstGeom prst="rect">
            <a:avLst/>
          </a:prstGeom>
          <a:ln w="0">
            <a:noFill/>
          </a:ln>
        </p:spPr>
      </p:pic>
      <p:sp>
        <p:nvSpPr>
          <p:cNvPr id="130" name="Téglalap 10"/>
          <p:cNvSpPr/>
          <p:nvPr/>
        </p:nvSpPr>
        <p:spPr>
          <a:xfrm>
            <a:off x="7458120" y="147600"/>
            <a:ext cx="1506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6360" y="1209600"/>
            <a:ext cx="8639280" cy="40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4800" spc="-1" strike="noStrike">
                <a:solidFill>
                  <a:srgbClr val="0b578b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b578b"/>
                </a:solidFill>
                <a:latin typeface="Arial"/>
              </a:rPr>
              <a:t>E</a:t>
            </a:r>
            <a:r>
              <a:rPr b="1" lang="hu-HU" sz="4800" spc="-1" strike="noStrike">
                <a:solidFill>
                  <a:srgbClr val="0b578b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600" spc="-1" strike="noStrike">
                <a:solidFill>
                  <a:srgbClr val="0b578b"/>
                </a:solidFill>
                <a:latin typeface="Arial"/>
              </a:rPr>
              <a:t>az Ergonómia Európai Hónapja</a:t>
            </a:r>
            <a:r>
              <a:rPr b="1" lang="en-US" sz="3600" spc="-1" strike="noStrike">
                <a:solidFill>
                  <a:srgbClr val="0b578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(EME -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uropean Month of Ergonomics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b578b"/>
                </a:solidFill>
                <a:latin typeface="Arial"/>
              </a:rPr>
              <a:t>201</a:t>
            </a:r>
            <a:r>
              <a:rPr b="1" lang="hu-HU" sz="2800" spc="-1" strike="noStrike">
                <a:solidFill>
                  <a:srgbClr val="0b578b"/>
                </a:solidFill>
                <a:latin typeface="Arial"/>
              </a:rPr>
              <a:t>3. ok</a:t>
            </a:r>
            <a:r>
              <a:rPr b="1" lang="en-US" sz="2800" spc="-1" strike="noStrike">
                <a:solidFill>
                  <a:srgbClr val="0b578b"/>
                </a:solidFill>
                <a:latin typeface="Arial"/>
              </a:rPr>
              <a:t>t</a:t>
            </a:r>
            <a:r>
              <a:rPr b="1" lang="hu-HU" sz="2800" spc="-1" strike="noStrike">
                <a:solidFill>
                  <a:srgbClr val="0b578b"/>
                </a:solidFill>
                <a:latin typeface="Arial"/>
              </a:rPr>
              <a:t>ó</a:t>
            </a:r>
            <a:r>
              <a:rPr b="1" lang="en-US" sz="2800" spc="-1" strike="noStrike">
                <a:solidFill>
                  <a:srgbClr val="0b578b"/>
                </a:solidFill>
                <a:latin typeface="Arial"/>
              </a:rPr>
              <a:t>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600" spc="-1" strike="noStrike">
                <a:solidFill>
                  <a:srgbClr val="ac0056"/>
                </a:solidFill>
                <a:latin typeface="Arial"/>
              </a:rPr>
              <a:t>Ergon</a:t>
            </a:r>
            <a:r>
              <a:rPr b="1" i="1" lang="hu-HU" sz="3600" spc="-1" strike="noStrike">
                <a:solidFill>
                  <a:srgbClr val="ac0056"/>
                </a:solidFill>
                <a:latin typeface="Arial"/>
              </a:rPr>
              <a:t>ó</a:t>
            </a:r>
            <a:r>
              <a:rPr b="1" i="1" lang="en-US" sz="3600" spc="-1" strike="noStrike">
                <a:solidFill>
                  <a:srgbClr val="ac0056"/>
                </a:solidFill>
                <a:latin typeface="Arial"/>
              </a:rPr>
              <a:t>mi</a:t>
            </a:r>
            <a:r>
              <a:rPr b="1" i="1" lang="hu-HU" sz="3600" spc="-1" strike="noStrike">
                <a:solidFill>
                  <a:srgbClr val="ac0056"/>
                </a:solidFill>
                <a:latin typeface="Arial"/>
              </a:rPr>
              <a:t>a a kockázat-megelőzésé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340000" y="342900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5029200" y="53341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zövegdoboz 1"/>
          <p:cNvSpPr/>
          <p:nvPr/>
        </p:nvSpPr>
        <p:spPr>
          <a:xfrm>
            <a:off x="1763640" y="5662440"/>
            <a:ext cx="5923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33cc"/>
                </a:solidFill>
                <a:latin typeface="Arial"/>
              </a:rPr>
              <a:t>Ez a 2013-as bemutató  a 2012-es kampányanyag alapján készü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96908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munkatevékenység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felmérésének kritériumai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1440" y="155700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 munkatevékenység felmérésének kritériumai, annak érdekében, hogy fenntartsuk a munkás jólétét, a következő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z egészség nem romol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feladatjellemzők a munkás méretének, erejének, és mentális képességeinek normális határain belül kell, hogy legyenek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ámításba véve a fiziológiai kényszere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estméret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a pszichológiai kényszere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nfor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ciófeldolgozás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eladatok nem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aszthatna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kolatlan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vetelményeket a telj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s ideális esetben 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unkával töltött telj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őtartama alatt, figyelembe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éve mind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dvezőtlen tényezők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lmozódó hatásá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. nehéz fizikai terhelés vagy pszichés stressz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unkaképes népesség elöregedé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feladatnak segítenie kell a szakmai fejlődést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kompetenciák kialakulás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feladatokat a munkásokkal együttműködve kell megtervezni és kialakítani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525636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z 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r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i kockázatok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"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rossz tervezéssel kapcsolatosak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61440" y="155700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A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 munkahelyi kockázatok jó része a rossz ergonómiai tervezésnek tudható be, pl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munkakörök és feladat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ossz ergonómiai tervezése fiziológiai és pszichológiai  stresszhez, elégedetlenséghez és balesetekhez vez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berendezés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zok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interfész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mberi hibázásokhoz és súlyos baleseteket eredményezh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fizikai munkakörnyez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világítá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kuszt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ossz ergonómiai tervezésének különböző negatív hatásai lehetnek, közvetlenül az emberre, és a munkahelyi viselkedés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Ezért lényeges a termelés és a termelés-technológia tervezését befolyásolni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–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ezt jó együttműködéssel lehet elérni a vállalat különböző alkalmazotti csoportjai közöt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47380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z 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ergonómia kockázatok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" 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is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folytonos monitorizálást igényelnek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1440" y="155700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 munkahelyen folyamatosan történnek változások - ennélfogva folyamatos ellenőrzésre és fejlesztésre van szüksé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unkatevékenység és a munkakörnyezet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rgonómiai értékelése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rmészetes a munkás számára, akinek a legtöbb tapasztalata van a munkájáró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z ergonómiai ellenőrző listáka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unkahelyi ergonómiai értékelésének támogatására és rendszeresítésére kell használ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gyakran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munkaegészségügyi és munkavédelmi szakértők hozzájárulásá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gény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menedzsment és a tervezés képviselőinek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ogatni kell ezeket az értékeléseket és össze kell gyűjteni a tapasztalatokat a szükséges munkahelyi fejlesztésekh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47380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z ergonómiai kockázat-megelőzés mindannyiunk felelőssége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61440" y="141264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z ergonómiához kapcsolódó kockázat-felmérés különböző szakaszaiban számos szereplő vesz részt, pl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gépek és a gyártó rendszer tervező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rendszerek irányító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a követelmények felállításával és a szükséges információk és a tervezési célok megadásáv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munkaberendezések vevő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. ergonómiai és használható munkaeszközök és más berendezések beszerzésé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menedzsment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mely jó munkafeltételeket követel meg és végig kíséri a rendszerek megvalósítás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karbantartó szakemberek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kik biztosítják, hogy a munkahely működjön, és a tervek szerint folytassa a működését. </a:t>
            </a:r>
            <a:r>
              <a:rPr b="0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33cc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33cc"/>
                </a:solidFill>
                <a:latin typeface="Arial"/>
              </a:rPr>
              <a:t>Az </a:t>
            </a: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munkaegészségügyi és munkavédelmi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0033cc"/>
                </a:solidFill>
                <a:latin typeface="Arial"/>
              </a:rPr>
              <a:t>személyzet,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int a munkahelyi felmérések szereplő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művezetők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kik a napi működést irányítjá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ff"/>
                </a:solidFill>
                <a:latin typeface="Arial"/>
              </a:rPr>
              <a:t>A munkások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kik betartják a biztonsági előírásokat és döntenek arról, hogy hogyan dolgozzanak új helyzetek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489744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Részvételi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 er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 –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előnyös megközelítés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802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dolgozók részvételének a tervezésben számos közvetlen és közvetett haszna v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A felhasználó tapasztalatainak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és 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tervezői meglátásoknak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gyesítése – a </a:t>
            </a:r>
            <a:r>
              <a:rPr b="1" lang="hu-HU" sz="1700" spc="-1" strike="noStrike">
                <a:solidFill>
                  <a:srgbClr val="ff0101"/>
                </a:solidFill>
                <a:latin typeface="Arial"/>
              </a:rPr>
              <a:t>megoldás átfogó követelményeknek tesz eleget: amelyek termeléssel, egészséggel , jóléttel, és biztonsággal kapcsolatosa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vezési folyamat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tanulási folyamat mind a tervezők, mind a felhasználók számár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dolgozó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jobban motiváltak, a rendszer operátoraikén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tervező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vezető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odafigyelnek 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használat problémáira.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rendszer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kivitelezése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és beindítás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kevésbé problematiku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folyam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simán megy végbe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– kevesebb utólagos korrekcióra van szükség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700" spc="-1" strike="noStrike">
                <a:solidFill>
                  <a:srgbClr val="ff0101"/>
                </a:solidFill>
                <a:latin typeface="Arial"/>
              </a:rPr>
              <a:t>potenciális veszélyeket és kockázatokat azonosítják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vezési folyamatba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700" spc="-1" strike="noStrike">
                <a:solidFill>
                  <a:srgbClr val="ff0101"/>
                </a:solidFill>
                <a:latin typeface="Arial"/>
              </a:rPr>
              <a:t>kockázatok azonosítása és kezelése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indenki számára könnyebb a munkahely változó szituációiba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532764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részvételi er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különböző előfeltételeket igényel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759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 dolgozói részvétel irányítást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,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erőforrásokat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,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módszereket és anyagi eszközöket igényel</a:t>
            </a:r>
            <a:r>
              <a:rPr b="0" lang="en-US" sz="2000" spc="-1" strike="noStrike">
                <a:solidFill>
                  <a:srgbClr val="ff0101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rvezési ülések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irányítás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lelkes vezető/facilitá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rőforrások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észvételi tervezési ülésekh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dő, helyszín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Szemléltető tervezési módszer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orgatókönyv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r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ikus feladatleírások, szemléltető rajzok, fotók, videó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rvezési problém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gvitatásának módszer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ülönböző  táblás és csoportos techniká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rvek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tesztelésének módszere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é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szköz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o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pus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ögtönzött prototípus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lévő munka elrendezések hasznosítá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Számos szerep és feladat vár a különböző szintű vezetőkre és munkaegészségügyi és munkavédelmi szakemberekre, hogy támogassák a részvételen alapuló tervezési folyamatot, és hogy megszervezzék a tervezési eseménye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96908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Részvételi 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er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–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egy érzékeny készség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1440" y="1413000"/>
            <a:ext cx="8580600" cy="50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 dolgozók részvétele extra készségeket igényel a lehetséges problémák azonosításához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0101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olgozók hajlamosak 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hagyományos megoldások előnyben részesítésre a választásaikban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csak nem győzik meg őket az újak előnyeirő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dolgozók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tapasztalata gyakorlatias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– az okok és következmények közötti kapcsolat nem mindig nyilvánvaló a számuk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fokozatos hatások kockázat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pl. a zajnak vagy a stressznek vagy egyéb tényezőknek való kitétel, amelyek nem okoznak fájdalmat vagy kényelmetlenséget, és nem nyilvánvalóak a számukr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"n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m látható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"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kockázatok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lyek komplex folyamatok vagy több tényező eredményei, nem nyilvánvalóak számuk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 vezető/facilitátor szerepe a tapasztalatok összegyűjtése, a tervezési probléma tanulmányozása, a részvevők irányítása, és velük együtt egy megegyezéses megoldás kialakítása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–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ez valóban egy megerőltető és érzékeny készséget igény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525636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z e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r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i irányelvek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képezik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kockázat-megelőzés alapját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867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ff0101"/>
                </a:solidFill>
                <a:latin typeface="Arial"/>
              </a:rPr>
              <a:t>Az együttműködés és a részvétel lényeges, de nem elégséges – az ergonómiai útmutatók szintén fontosak a megfelelő kockázat-megelőzéshez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z ergonómiai útmutatók szerepelnek az európai ergonómiai (és biztonsági) szabványokban. Az ergonómiai szabványok 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yar Szabványügyi Testüle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38dc"/>
                </a:solidFill>
                <a:latin typeface="Arial"/>
              </a:rPr>
              <a:t>honlapján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elérhetők, pl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gon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i tervezési alapelve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614-1, EN 614-2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 ISO 6385)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ogadható testtartások és erő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-1005-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ntropometriai munkahelyi mér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ISO 14738)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közelítő nyílás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egész test és a testrészek számá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547-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formáció bemutatá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894-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észek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9241 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b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mberi munkatevékenység az emberi megismerés szempontjábó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894-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mberi munkatevékenység a mentális munkaterhelés irányításáb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ISO 10075-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rnyezeti tényező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világítás, hőmérséklet stb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EN 12464,  EN ISO 113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lekedő utak és lépcső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l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ISO 14122-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roz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5184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Továbblépés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: 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tervezési és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vezetési gyakorlat fejlesztése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5760" y="1412640"/>
            <a:ext cx="8867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z emberi tényező figyelembe vételéhez és jó munkahelyek létrehozásához rendszeresen kell fejleszteni, pl. az alábbiakat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3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melési rendszer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tervezési célja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világosan kell, hogy tartalmazzák az ember szempontjait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38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Az együttműködésnek magában kell foglalnia minden olyan csoportot,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mely hatással van a munkahelyek ergonómiai minőségére: a terméktervezőktől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gyárthatósá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melés tervezők különböző csoportjáig, a vezetőki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felügyelőki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foglalkozási egészségügyi és munkavédelm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szakembereki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és a dolgozóki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3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melési rendszerre vonatkozó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tervezési információ nyitott és elérhető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ell, hogy legyen minden érintett csoport számára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38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A lényeges ergonómiai ismeretek és útmutatók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önnyen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elérhetőek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kell, hogy legyenek a tervezők számára a tervezési folyamat során.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38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A tervezési módszereknek -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műszaki leírásokon túl - tartalmazniuk kell az emberi munkatevékenység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láthatóvá tételét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is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A munkahely működéséről történő visszacsatolás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p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foglalkozási egészségügyi és munkavédelmi személyzet felméréseinek eredményei) el kell, hogy jussanak a </a:t>
            </a: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felelő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tervezőkhöz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532764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Er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 a gyártástervezésben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: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jó az egészségnek és jó az üzlet</a:t>
            </a:r>
            <a:r>
              <a:rPr b="1" lang="hu-HU" sz="2400" spc="-1" strike="noStrike">
                <a:solidFill>
                  <a:srgbClr val="0e75b8"/>
                </a:solidFill>
                <a:latin typeface="Arial"/>
              </a:rPr>
              <a:t>nek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1440" y="155700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ff"/>
                </a:solidFill>
                <a:latin typeface="Arial"/>
              </a:rPr>
              <a:t>Az ergonómiának a tervezésben történő alkalmazásáva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termelési rendszereket és a munkahelyeket egyaránt lehet fejleszteni mind </a:t>
            </a:r>
            <a:r>
              <a:rPr b="1" lang="hu-HU" sz="1700" spc="-1" strike="noStrike">
                <a:solidFill>
                  <a:srgbClr val="ff0101"/>
                </a:solidFill>
                <a:latin typeface="Arial"/>
              </a:rPr>
              <a:t>az operátor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, mind pedig </a:t>
            </a:r>
            <a:r>
              <a:rPr b="1" lang="hu-HU" sz="1700" spc="-1" strike="noStrike">
                <a:solidFill>
                  <a:srgbClr val="ff0101"/>
                </a:solidFill>
                <a:latin typeface="Arial"/>
              </a:rPr>
              <a:t>a szervezet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javár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z operátor jobb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megelégedettség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mot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ációj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elköteleződés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evesebb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balese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betegállományi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hiányzá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kevesebb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mberi hibából eredő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 üzemzavar és termeléskiesés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jobb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minősé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kevesebb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figyelmetlen munk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37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gördüléken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működé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egfelelő műveletek a megfelelő módon, minimális erőfeszítéssel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kevesebb igény az utólagos javításokr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későbbi változtatások kisebb költség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8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900" spc="-1" strike="noStrike">
                <a:solidFill>
                  <a:srgbClr val="ff0101"/>
                </a:solidFill>
                <a:latin typeface="Arial"/>
              </a:rPr>
              <a:t>Az ergonómiának mind az egészségre, mind az üzletre gyakorolt jótékony hatásainak felismerésével a vezetés indokoltan</a:t>
            </a:r>
            <a:r>
              <a:rPr b="1" lang="en-US" sz="1900" spc="-1" strike="noStrike">
                <a:solidFill>
                  <a:srgbClr val="ff0101"/>
                </a:solidFill>
                <a:latin typeface="Arial"/>
              </a:rPr>
              <a:t> </a:t>
            </a:r>
            <a:r>
              <a:rPr b="1" lang="hu-HU" sz="1900" spc="-1" strike="noStrike">
                <a:solidFill>
                  <a:srgbClr val="ff0101"/>
                </a:solidFill>
                <a:latin typeface="Arial"/>
              </a:rPr>
              <a:t>kötelezheti el magát a munkahelyek átfogó fejlesztése iránt</a:t>
            </a:r>
            <a:r>
              <a:rPr b="1" lang="en-US" sz="1900" spc="-1" strike="noStrike" baseline="30000">
                <a:solidFill>
                  <a:srgbClr val="ff0101"/>
                </a:solidFill>
                <a:latin typeface="Arial"/>
              </a:rPr>
              <a:t>1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ásd: 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Dul, Ralph Bruder, Peter Buckle, Pascale Carayon, et al. (2012): A strategy for human factors/ergonomics: developing the discipline and professio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rgonom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012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:10.1080/00140139.2012.661087, </a:t>
            </a:r>
            <a:r>
              <a:rPr b="0" lang="en-US" sz="1200" spc="-1" strike="noStrike">
                <a:solidFill>
                  <a:srgbClr val="0d5dff"/>
                </a:solidFill>
                <a:latin typeface="Arial"/>
              </a:rPr>
              <a:t>http://www.tandfonline.com/te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1092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600" spc="-1" strike="noStrike">
                <a:solidFill>
                  <a:srgbClr val="ac0056"/>
                </a:solidFill>
                <a:latin typeface="Arial"/>
              </a:rPr>
              <a:t>       </a:t>
            </a:r>
            <a:r>
              <a:rPr b="1" lang="hu-HU" sz="3600" spc="-1" strike="noStrike">
                <a:solidFill>
                  <a:srgbClr val="0038dc"/>
                </a:solidFill>
                <a:latin typeface="Arial"/>
              </a:rPr>
              <a:t>Mi az </a:t>
            </a:r>
            <a:r>
              <a:rPr b="1" lang="en-US" sz="3600" spc="-1" strike="noStrike">
                <a:solidFill>
                  <a:srgbClr val="0038dc"/>
                </a:solidFill>
                <a:latin typeface="Arial"/>
              </a:rPr>
              <a:t>EE</a:t>
            </a:r>
            <a:r>
              <a:rPr b="1" lang="hu-HU" sz="3600" spc="-1" strike="noStrike">
                <a:solidFill>
                  <a:srgbClr val="0038dc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0038dc"/>
                </a:solidFill>
                <a:latin typeface="Arial"/>
              </a:rPr>
              <a:t>?</a:t>
            </a: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       </a:t>
            </a:r>
            <a:endParaRPr b="1" lang="en-US" sz="36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75760" y="1413000"/>
            <a:ext cx="8580600" cy="49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701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Az Ergonómia Európai Hónapja </a:t>
            </a:r>
            <a:r>
              <a:rPr b="0" lang="en-US" sz="1800" spc="-1" strike="noStrike">
                <a:solidFill>
                  <a:srgbClr val="ac005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európai ergonómia népszerűsítésének éves kampány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ópai Ergonómiai Társaságok Szövet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ederation of European Ergonomics Societie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 kezdeményez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a nemzeti ergonómiai társaságok valósítják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S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urópai Munkavédelmi Ügynökség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Agency for Safety and Health at Wor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-OSH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 hivatalos partn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 2012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 és 2013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-OSH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ves Egészséges Munkahelyek kampányát támogatja. A kampány témá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-2013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b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gyütt a kockázatok megelőzéséért</a:t>
            </a:r>
            <a:r>
              <a:rPr b="1" i="1" lang="hu-HU" sz="2400" spc="-1" strike="noStrike">
                <a:solidFill>
                  <a:srgbClr val="0000ff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 2012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-20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gonómiának a kockázat-megelőzésben betöltött szerepére fókuszál, az alábbi témáb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0101"/>
                </a:solidFill>
                <a:latin typeface="Arial"/>
              </a:rPr>
              <a:t>Ergon</a:t>
            </a:r>
            <a:r>
              <a:rPr b="1" i="1" lang="hu-HU" sz="2400" spc="-1" strike="noStrike">
                <a:solidFill>
                  <a:srgbClr val="ff0101"/>
                </a:solidFill>
                <a:latin typeface="Arial"/>
              </a:rPr>
              <a:t>ó</a:t>
            </a:r>
            <a:r>
              <a:rPr b="1" i="1" lang="en-US" sz="2400" spc="-1" strike="noStrike">
                <a:solidFill>
                  <a:srgbClr val="ff0101"/>
                </a:solidFill>
                <a:latin typeface="Arial"/>
              </a:rPr>
              <a:t>mi</a:t>
            </a:r>
            <a:r>
              <a:rPr b="1" i="1" lang="hu-HU" sz="2400" spc="-1" strike="noStrike">
                <a:solidFill>
                  <a:srgbClr val="ff0101"/>
                </a:solidFill>
                <a:latin typeface="Arial"/>
              </a:rPr>
              <a:t>a a kockázat-megelőzésé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525636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38dc"/>
                </a:solidFill>
                <a:latin typeface="Arial"/>
              </a:rPr>
              <a:t>Az</a:t>
            </a:r>
            <a:r>
              <a:rPr b="1" lang="en-US" sz="2800" spc="-1" strike="noStrike">
                <a:solidFill>
                  <a:srgbClr val="0038dc"/>
                </a:solidFill>
                <a:latin typeface="Arial"/>
              </a:rPr>
              <a:t> EE</a:t>
            </a:r>
            <a:r>
              <a:rPr b="1" lang="hu-HU" sz="2800" spc="-1" strike="noStrike">
                <a:solidFill>
                  <a:srgbClr val="0038dc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38dc"/>
                </a:solidFill>
                <a:latin typeface="Arial"/>
              </a:rPr>
              <a:t> 201</a:t>
            </a:r>
            <a:r>
              <a:rPr b="1" lang="hu-HU" sz="2800" spc="-1" strike="noStrike">
                <a:solidFill>
                  <a:srgbClr val="0038dc"/>
                </a:solidFill>
                <a:latin typeface="Arial"/>
              </a:rPr>
              <a:t>3 tapasztalatai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20908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5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Ergonómia Európai Hónapja 2013 utá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, hogy gyűjtsön információkat a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-hez kapcsolódó akciókró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semény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ikk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zdeményezések st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melyekre az Ön országában került 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eket az információkat a jövőbeni EEH kampányok javítására használjuk, és a tapasztalatok megosztására az FEES nemzeti társaságaiv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76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KÉRJÜK, HOGY KÜLDJE EL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eket az információkat az FE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and Promotion Committe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jéh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Aft>
                <a:spcPts val="15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ti Launi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ho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tti.launis@ttl.f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,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gy a Magyar Ergonómiai Társaság címére met@dsgi.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bemutató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ti Launi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állította össze, a magyar változatot dr. Simon Péternek köszönjü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92360" y="1440"/>
            <a:ext cx="3672000" cy="9813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38dc"/>
                </a:solidFill>
                <a:latin typeface="Arial"/>
              </a:rPr>
              <a:t>Köszönjük!</a:t>
            </a:r>
            <a:endParaRPr b="1" lang="en-US" sz="36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97800" cy="487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Együtt a kockázatok megelőzéséért – 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ergonómusok együtt a munkaegészségügyi és munkavédelmi speci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alis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tákkal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és a munkahelyeken dolgozókkal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Mutassuk meg az ERGONÓMIA lehetőségeit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ac0056"/>
                </a:solidFill>
                <a:latin typeface="Arial"/>
              </a:rPr>
              <a:t>a kockázat- megelőzésben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Köszönjük érdeklődésé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c005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S-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ampány az Ergonóm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ópa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ónapjáért, annak érdekében, hogy támogassa az ergonómiát Európáb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S – Federation of European Ergonomics Societie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ttp://ergonomics-fees.e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agyar Ergonómiai Társaság: met.ergonomiavilaga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1092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EU-OSHA </a:t>
            </a:r>
            <a:r>
              <a:rPr b="1" lang="hu-HU" sz="3200" spc="-1" strike="noStrike">
                <a:solidFill>
                  <a:srgbClr val="0038dc"/>
                </a:solidFill>
                <a:latin typeface="Arial"/>
              </a:rPr>
              <a:t>kampány</a:t>
            </a: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       </a:t>
            </a:r>
            <a:r>
              <a:rPr b="1" lang="fi-FI" sz="3200" spc="-1" strike="noStrike">
                <a:solidFill>
                  <a:srgbClr val="0038d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5760" y="1628280"/>
            <a:ext cx="530388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-OSHA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Együtt a kockázatok megelőzéséért</a:t>
            </a:r>
            <a:r>
              <a:rPr b="1" i="1" lang="hu-HU" sz="1800" spc="-1" strike="noStrike">
                <a:solidFill>
                  <a:srgbClr val="0000ff"/>
                </a:solidFill>
                <a:latin typeface="Arial"/>
              </a:rPr>
              <a:t>!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mpány célja a munkahelyi balesetek és megbetegedések magas számának csökkentése az EU-ban. Az éves statisztikák sze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00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mber hal meg munkahelyi balesetek következ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9 000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mber hal meg foglalkozási megbetegedések következ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galáb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0 mill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unkanap vész 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kampányról további információk itt található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ww.healthy-workplaces.e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305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4920" y="1557000"/>
            <a:ext cx="47530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-OSH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ampá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0101"/>
                </a:solidFill>
                <a:latin typeface="Arial"/>
              </a:rPr>
              <a:t>együttműködésre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ólít fel a vállalatok minden foglalkoztatási csoportja között a kockázatok megelőzésére a munkahelyen.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mpány fő elemei a következő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ff0101"/>
                </a:solidFill>
                <a:latin typeface="Arial"/>
              </a:rPr>
              <a:t>vezetők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átorítása arra, hogy irányítsák a biztonságot és az egészséget érintő témákat, hitelesen konzultálva a beosztottjaikkal és a legjobb rendelkezésre álló kockázat megelőzési stratégiák követésé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ff0101"/>
                </a:solidFill>
                <a:latin typeface="Arial"/>
              </a:rPr>
              <a:t>dolgozó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képviselőik bátorítása arra, hogy osszák meg ötleteiket és aktívan működjenek együtt vezetőikkel mindenki biztonságának és egészségének növeléséb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C:\Documents and Settings\oem user\Asztal\WP_000462.jpg"/>
          <p:cNvPicPr/>
          <p:nvPr/>
        </p:nvPicPr>
        <p:blipFill>
          <a:blip r:embed="rId1"/>
          <a:stretch/>
        </p:blipFill>
        <p:spPr>
          <a:xfrm>
            <a:off x="5335560" y="1447920"/>
            <a:ext cx="3340080" cy="4871880"/>
          </a:xfrm>
          <a:prstGeom prst="rect">
            <a:avLst/>
          </a:prstGeom>
          <a:ln w="0">
            <a:noFill/>
          </a:ln>
        </p:spPr>
      </p:pic>
      <p:sp>
        <p:nvSpPr>
          <p:cNvPr id="188" name="Téglalap 1"/>
          <p:cNvSpPr/>
          <p:nvPr/>
        </p:nvSpPr>
        <p:spPr>
          <a:xfrm>
            <a:off x="2771640" y="189000"/>
            <a:ext cx="392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EU-OSHA </a:t>
            </a:r>
            <a:r>
              <a:rPr b="1" lang="hu-HU" sz="3200" spc="-1" strike="noStrike">
                <a:solidFill>
                  <a:srgbClr val="0038dc"/>
                </a:solidFill>
                <a:latin typeface="Arial"/>
              </a:rPr>
              <a:t>kampány</a:t>
            </a: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1092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ac005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EE</a:t>
            </a:r>
            <a:r>
              <a:rPr b="1" lang="hu-HU" sz="3200" spc="-1" strike="noStrike">
                <a:solidFill>
                  <a:srgbClr val="0038dc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 2012 - 2013       </a:t>
            </a:r>
            <a:r>
              <a:rPr b="1" lang="fi-FI" sz="3200" spc="-1" strike="noStrike">
                <a:solidFill>
                  <a:srgbClr val="0038d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5760" y="1413000"/>
            <a:ext cx="8580600" cy="49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bben az évben az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 201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élja az ergonómia szerepének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bemutatás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kockázat-megelőzés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mpány második évében az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célja 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gyakorlati megoldások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pl. kutatási-fejlesztési projektek, esettanulmányok, módszerek stb.,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bemutat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élja, hogy </a:t>
            </a:r>
            <a:r>
              <a:rPr b="1" lang="hu-HU" sz="1800" spc="-1" strike="noStrike">
                <a:solidFill>
                  <a:srgbClr val="ff0101"/>
                </a:solidFill>
                <a:latin typeface="Arial"/>
              </a:rPr>
              <a:t>bátorítsa a párbeszédet és az együttműködés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gonómiai szakértők, biztonsági szakemberek, foglalkozás-egészségügyi és biztonsági hatóságok, valamint a vállalati személyzet között, annak érdekében, hogy vegyék figyelembe </a:t>
            </a:r>
            <a:r>
              <a:rPr b="1" lang="hu-HU" sz="1800" spc="-1" strike="noStrike">
                <a:solidFill>
                  <a:srgbClr val="ff0101"/>
                </a:solidFill>
                <a:latin typeface="Arial"/>
              </a:rPr>
              <a:t>az ergonómiai ismerteket és módszerek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kockázat-megelőzés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a fóliasor használható előadásokhoz, oktatási eseményekhez, szemináriumokhoz vagy olyan publikációkhoz, amelyek az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E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zenetét terjesztik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mzeti tag társaságai ál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ac0056"/>
                </a:solidFill>
                <a:latin typeface="Arial"/>
              </a:rPr>
              <a:t>     </a:t>
            </a:r>
            <a:r>
              <a:rPr b="1" lang="hu-HU" sz="3200" spc="-1" strike="noStrike">
                <a:solidFill>
                  <a:srgbClr val="0038dc"/>
                </a:solidFill>
                <a:latin typeface="Arial"/>
              </a:rPr>
              <a:t>Mi az ergonómia?</a:t>
            </a:r>
            <a:r>
              <a:rPr b="1" lang="en-US" sz="3200" spc="-1" strike="noStrike">
                <a:solidFill>
                  <a:srgbClr val="0038d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78920" indent="-17892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z ergonómia ismereteket és készségeket nyújt ahhoz, hogy a környezetet, a berendezéseket és a tevékenységeket az emberhez illeszthessük</a:t>
            </a:r>
            <a:r>
              <a:rPr b="1" lang="hu-HU" sz="1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ttős cél egyaránt javítani az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mberek jólétét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fokozni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rendszerek termelékenységé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gonómia gyakorlati alkalmazásához az alábbi részterületeket azonosítottá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69560">
              <a:lnSpc>
                <a:spcPct val="90000"/>
              </a:lnSpc>
              <a:spcAft>
                <a:spcPts val="1125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fizikai ergonóm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testhelyzetek és mozgások, fizikai munkaterhelés, kézi anyagmozgatás, munkahely tervez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69560">
              <a:lnSpc>
                <a:spcPct val="90000"/>
              </a:lnSpc>
              <a:spcAft>
                <a:spcPts val="1125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ognit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í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v ergon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ó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mi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or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ció-feldolgozá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e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 munkaterhelés, ember-számítógép interfés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nformáció átadás alkalmazása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169560">
              <a:lnSpc>
                <a:spcPct val="90000"/>
              </a:lnSpc>
              <a:spcAft>
                <a:spcPts val="1125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szervezeti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 ergon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ó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mi</a:t>
            </a:r>
            <a:r>
              <a:rPr b="1" lang="hu-HU" sz="1800" spc="-1" strike="noStrike">
                <a:solidFill>
                  <a:srgbClr val="ac0056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a munkaszervezet figyelembe vétele, munkafolyamatok és munkaidő, a munkatevékenység fejlesztései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0" algn="ctr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z e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rgon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ó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mi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 jó munkakörnyezet megteremtésének, és egyben a munkahelyi kockázatok megelőzésének központi tudományága is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0" algn="ctr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mzetközi Ergonómiai Szövetség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Ergonomics Association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A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- 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rgonómia meghatározását lásd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38dc"/>
                </a:solidFill>
                <a:uFillTx/>
                <a:latin typeface="Arial"/>
              </a:rPr>
              <a:t>http://www.iea.cc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6624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300" spc="-1" strike="noStrike">
                <a:solidFill>
                  <a:srgbClr val="ac0056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38dc"/>
                </a:solidFill>
                <a:latin typeface="Arial"/>
              </a:rPr>
              <a:t>Ergon</a:t>
            </a:r>
            <a:r>
              <a:rPr b="1" lang="hu-HU" sz="23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3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300" spc="-1" strike="noStrike">
                <a:solidFill>
                  <a:srgbClr val="0038dc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38dc"/>
                </a:solidFill>
                <a:latin typeface="Arial"/>
              </a:rPr>
              <a:t>: </a:t>
            </a:r>
            <a:r>
              <a:rPr b="1" lang="hu-HU" sz="2300" spc="-1" strike="noStrike">
                <a:solidFill>
                  <a:srgbClr val="0038dc"/>
                </a:solidFill>
                <a:latin typeface="Arial"/>
              </a:rPr>
              <a:t>emberi adottságok és </a:t>
            </a:r>
            <a:br>
              <a:rPr sz="2300"/>
            </a:br>
            <a:r>
              <a:rPr b="1" lang="hu-HU" sz="2300" spc="-1" strike="noStrike">
                <a:solidFill>
                  <a:srgbClr val="0038dc"/>
                </a:solidFill>
                <a:latin typeface="Arial"/>
              </a:rPr>
              <a:t>az emberi tevékenység a tervezésben</a:t>
            </a:r>
            <a:endParaRPr b="1" lang="en-US" sz="23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22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gonómia az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emberi munkatevékenységre és az emberi adottságokra koncentrá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hiteles megelőzési megközelítést tud nyújtani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örnyezetünk és berendezéseink tervezéséhez és létesítéséh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2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gonómia ideálisan alkalmazható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tervezés és megvalósítás minden szakaszáb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ez hozzájárul az ember átfogó és megfelelő figyelembe vételéh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m csak a hibák utólagos kijavításáh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IMG_1486-crop"/>
          <p:cNvPicPr/>
          <p:nvPr/>
        </p:nvPicPr>
        <p:blipFill>
          <a:blip r:embed="rId1"/>
          <a:stretch/>
        </p:blipFill>
        <p:spPr>
          <a:xfrm>
            <a:off x="2352600" y="3828960"/>
            <a:ext cx="4737240" cy="2279880"/>
          </a:xfrm>
          <a:prstGeom prst="rect">
            <a:avLst/>
          </a:prstGeom>
          <a:ln w="0">
            <a:noFill/>
          </a:ln>
        </p:spPr>
      </p:pic>
      <p:sp>
        <p:nvSpPr>
          <p:cNvPr id="196" name="Téglalap 1"/>
          <p:cNvSpPr/>
          <p:nvPr/>
        </p:nvSpPr>
        <p:spPr>
          <a:xfrm>
            <a:off x="7451640" y="115920"/>
            <a:ext cx="151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Kép 5" descr=""/>
          <p:cNvPicPr/>
          <p:nvPr/>
        </p:nvPicPr>
        <p:blipFill>
          <a:blip r:embed="rId2"/>
          <a:stretch/>
        </p:blipFill>
        <p:spPr>
          <a:xfrm>
            <a:off x="7493040" y="147600"/>
            <a:ext cx="1506600" cy="689040"/>
          </a:xfrm>
          <a:prstGeom prst="rect">
            <a:avLst/>
          </a:prstGeom>
          <a:ln w="126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511164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Ergon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mi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38dc"/>
                </a:solidFill>
                <a:latin typeface="Arial"/>
              </a:rPr>
              <a:t>: </a:t>
            </a: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együttműködés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és részvétel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gonómia alkalmazása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minden résztvevő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menedzsment, tervezők, munkaegészségügyi és munkavédelmi szakemberek, művezetők és munkások)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 alapos együttműködésé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elenti a munkahelyen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észvételi és együttműködő megközelítést jelenleg szükségesnek tekintjük ahhoz, hogy az emberi tevékenység és a termelés minden vonatkozását számításba vegyük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Ez hasonló az EU-OSHA kampányban alkalmazott megközelítésse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észvétel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go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égó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zponti megközelítés az ergonómusok közöt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z ergonómusoknak vannak olyan tapasztalatai, amelyeket hasznosítani lehet az EU-OSHA kampányb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Picture1"/>
          <p:cNvPicPr/>
          <p:nvPr/>
        </p:nvPicPr>
        <p:blipFill>
          <a:blip r:embed="rId1"/>
          <a:stretch/>
        </p:blipFill>
        <p:spPr>
          <a:xfrm>
            <a:off x="2060640" y="4479840"/>
            <a:ext cx="4894200" cy="1768680"/>
          </a:xfrm>
          <a:prstGeom prst="rect">
            <a:avLst/>
          </a:prstGeom>
          <a:ln w="0">
            <a:noFill/>
          </a:ln>
        </p:spPr>
      </p:pic>
      <p:pic>
        <p:nvPicPr>
          <p:cNvPr id="201" name="Kép 5" descr=""/>
          <p:cNvPicPr/>
          <p:nvPr/>
        </p:nvPicPr>
        <p:blipFill>
          <a:blip r:embed="rId2"/>
          <a:stretch/>
        </p:blipFill>
        <p:spPr>
          <a:xfrm>
            <a:off x="7493040" y="147600"/>
            <a:ext cx="1506600" cy="689040"/>
          </a:xfrm>
          <a:prstGeom prst="rect">
            <a:avLst/>
          </a:prstGeom>
          <a:ln w="126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e"/>
            </a:gs>
            <a:gs pos="50000">
              <a:srgbClr val="a1c2de"/>
            </a:gs>
            <a:gs pos="100000">
              <a:srgbClr val="fbf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5184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Az ergonómiával kapcsolatos </a:t>
            </a:r>
            <a:br>
              <a:rPr sz="2400"/>
            </a:br>
            <a:r>
              <a:rPr b="1" lang="hu-HU" sz="2400" spc="-1" strike="noStrike">
                <a:solidFill>
                  <a:srgbClr val="0038dc"/>
                </a:solidFill>
                <a:latin typeface="Arial"/>
              </a:rPr>
              <a:t>kockázatok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423800"/>
            <a:ext cx="8616960" cy="487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Az olyan munkatevékenység, amelyiket nem jól illesztettek az emberek adottságaihoz sérülésekhez és balesetekhez vezet,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0101"/>
                </a:solidFill>
                <a:latin typeface="Arial"/>
              </a:rPr>
              <a:t>pl.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fizikai túlterhel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héz munka, emel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áradtság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úlerőlteté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érülése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baleseteket ok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z ismétlődő munk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rossz testtartá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áz-izomrendszeri rendellenességekhez  és túlerőlteté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érülésekhez vez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0000ff"/>
                </a:solidFill>
                <a:latin typeface="Arial"/>
              </a:rPr>
              <a:t>A szellemi túlterhel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szichológiai stresszt és baleseteket ok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kauppa-banaani_IMG_0569-cropattu"/>
          <p:cNvPicPr/>
          <p:nvPr/>
        </p:nvPicPr>
        <p:blipFill>
          <a:blip r:embed="rId1"/>
          <a:stretch/>
        </p:blipFill>
        <p:spPr>
          <a:xfrm>
            <a:off x="1401840" y="3828960"/>
            <a:ext cx="1420560" cy="2492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P8070011-cropattu"/>
          <p:cNvPicPr/>
          <p:nvPr/>
        </p:nvPicPr>
        <p:blipFill>
          <a:blip r:embed="rId2"/>
          <a:stretch/>
        </p:blipFill>
        <p:spPr>
          <a:xfrm>
            <a:off x="3670200" y="3828960"/>
            <a:ext cx="1346400" cy="2492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IMG_1101-crop1"/>
          <p:cNvPicPr/>
          <p:nvPr/>
        </p:nvPicPr>
        <p:blipFill>
          <a:blip r:embed="rId3"/>
          <a:stretch/>
        </p:blipFill>
        <p:spPr>
          <a:xfrm>
            <a:off x="5864400" y="3828960"/>
            <a:ext cx="15793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10:38:22Z</dcterms:created>
  <dc:creator>Dietmar Gude</dc:creator>
  <dc:description/>
  <dc:language>en-US</dc:language>
  <cp:lastModifiedBy>oem user</cp:lastModifiedBy>
  <dcterms:modified xsi:type="dcterms:W3CDTF">2013-09-22T09:31:28Z</dcterms:modified>
  <cp:revision>404</cp:revision>
  <dc:subject/>
  <dc:title>Map of Germany</dc:title>
</cp:coreProperties>
</file>