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move the slide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323146A-DAA4-41EA-A880-EF9968A4C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2479B33-87B2-4372-8B53-6F380079C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hintergrund zugeschnitten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268200" y="6400800"/>
            <a:ext cx="9344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                           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EE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– Az ergonómia európai hónapja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2012   –   Ergon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ó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mi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 kockázat megelőzésé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zövegdoboz 8"/>
          <p:cNvSpPr/>
          <p:nvPr/>
        </p:nvSpPr>
        <p:spPr>
          <a:xfrm>
            <a:off x="250920" y="6381720"/>
            <a:ext cx="8611920" cy="276480"/>
          </a:xfrm>
          <a:prstGeom prst="rect">
            <a:avLst/>
          </a:prstGeom>
          <a:solidFill>
            <a:srgbClr val="c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6699ff"/>
                </a:solidFill>
                <a:latin typeface="Times New Roman"/>
              </a:rPr>
              <a:t>Foot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églalap 10"/>
          <p:cNvSpPr/>
          <p:nvPr/>
        </p:nvSpPr>
        <p:spPr>
          <a:xfrm>
            <a:off x="7458120" y="147600"/>
            <a:ext cx="1506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6360" y="1209600"/>
            <a:ext cx="8639280" cy="40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hu-HU" sz="2000" spc="-1" strike="noStrike">
              <a:solidFill>
                <a:srgbClr val="ac0056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340000" y="342900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029200" y="53341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2T12:18:21Z</dcterms:created>
  <dc:creator>oem user</dc:creator>
  <dc:description/>
  <dc:language>en-US</dc:language>
  <cp:lastModifiedBy>oem user</cp:lastModifiedBy>
  <dcterms:modified xsi:type="dcterms:W3CDTF">2013-10-12T12:18:33Z</dcterms:modified>
  <cp:revision>1</cp:revision>
  <dc:subject/>
  <dc:title> </dc:title>
</cp:coreProperties>
</file>