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68200" y="6400800"/>
            <a:ext cx="7047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EME  European Month of Ergonomics 2010   –   Ergonomics – a Key to Safe Mainte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tommasobellandi@gmail.co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ees-network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ees-network.org/" TargetMode="External"/><Relationship Id="rId2" Type="http://schemas.openxmlformats.org/officeDocument/2006/relationships/hyperlink" Target="http://www.iea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n.eu/cen/Sectors/TechnicalCommitteesWorkshops/CENTechnicalCommittees/Pages/Standards.aspx?param=6104&amp;title=CEN/TC%20122" TargetMode="External"/><Relationship Id="rId2" Type="http://schemas.openxmlformats.org/officeDocument/2006/relationships/hyperlink" Target="http://www.cen.eu/cen/Sectors/TechnicalCommitteesWorkshops/CENTechnicalCommittees/Pages/Standards.aspx?param=6104&amp;title=CEN/TC%20122" TargetMode="External"/><Relationship Id="rId3" Type="http://schemas.openxmlformats.org/officeDocument/2006/relationships/hyperlink" Target="http://www.cen.eu/cen/Sectors/TechnicalCommitteesWorkshops/CENTechnicalCommittees/Pages/Standards.aspx?param=6104&amp;title=CEN/TC%20122" TargetMode="External"/><Relationship Id="rId4" Type="http://schemas.openxmlformats.org/officeDocument/2006/relationships/hyperlink" Target="http://www.cen.eu/cen/Sectors/TechnicalCommitteesWorkshops/CENTechnicalCommittees/Pages/Standards.aspx?param=6104&amp;title=CEN/TC%20122" TargetMode="External"/><Relationship Id="rId5" Type="http://schemas.openxmlformats.org/officeDocument/2006/relationships/hyperlink" Target="http://www.cen.eu/cen/Sectors/TechnicalCommitteesWorkshops/CENTechnicalCommittees/Pages/Standards.aspx?param=6104&amp;title=CEN/TC%20122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76120" y="1523880"/>
            <a:ext cx="8639280" cy="47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ac0056"/>
                </a:solidFill>
                <a:latin typeface="Arial"/>
              </a:rPr>
              <a:t>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b578b"/>
                </a:solidFill>
                <a:latin typeface="Arial"/>
              </a:rPr>
              <a:t>European Month of Ergonomic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b578b"/>
                </a:solidFill>
                <a:latin typeface="Arial"/>
              </a:rPr>
              <a:t>October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b578b"/>
                </a:solidFill>
                <a:latin typeface="Arial"/>
              </a:rPr>
              <a:t>Ergonomics – a Key to Saf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342900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3341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55164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Physical aspects of maintenance 3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447920"/>
            <a:ext cx="8616960" cy="18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xample, to ease physical load and to enhance safe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design and locate the checkpoints and maintenance objects to minimiz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moving distances and to facilitate easy and safe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roper equipment to move, and to reach maintenanc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roper tools to perform the maintenanc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040" y="3295800"/>
            <a:ext cx="1174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 typ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os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49800" y="3295800"/>
            <a:ext cx="1174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162108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430440"/>
            <a:ext cx="374508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Cognitive aspects of maintenance 1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7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Cognitive (or mental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of maintenance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ly po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plays and symbols, text not legible in varying enviro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maintenance equip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intu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procedur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logical, memorable or contro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easy-to-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urbance situ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orly instructed or gu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tivities around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ntion directed els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Cognitive aspects of maintenance 2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Guidelines for cognitive consideration of the equipment and activities exist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an ergonomics standard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esign of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and textual information (e.g. character size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 894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of inform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 894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work activities in regard to human cogni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 894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work activities in order to control mental workloa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 ISO 10075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are distributed by the national associations for standardizatio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Cognitive aspects of maintenance 3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367160" cy="21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xample, to improve cognitive performance and to ease mental work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proper visual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logical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reliable and saf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35320" y="3860640"/>
            <a:ext cx="2092320" cy="2227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032360" cy="4484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3080" y="3770280"/>
            <a:ext cx="1295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xample: information of the balance point of an object to be lif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76908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e75b8"/>
                </a:solidFill>
                <a:latin typeface="Arial"/>
              </a:rPr>
              <a:t>Organizational aspects of maintenance 1</a:t>
            </a:r>
            <a:endParaRPr b="1" lang="en-US" sz="26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Organization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of mainten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ppropriate division of tasks betw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perator and the machine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lack of equipment for lightening heavy ta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ppropriate division of task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operato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nbalanced work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ppropri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hou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hifts, extensive work periods) – reduced physical and mental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or commun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oper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or guid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76908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e75b8"/>
                </a:solidFill>
                <a:latin typeface="Arial"/>
              </a:rPr>
              <a:t>Organizational aspects of maintenance 2</a:t>
            </a:r>
            <a:endParaRPr b="1" lang="en-US" sz="26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ergonomics design principle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organizing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tas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void overload of single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goo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and collabo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all operators in the site – use various channels, e.g. intra, papers, speech in meetings, introduction of maintenanc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safety knowledge from maintenance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guidance to maintenance operators about local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rgonomics design principles, see EN ISO 6385 and EN 614-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Ergonomics approach and methods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lines not enough - 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ergonomics design appro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so import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onsideration of the view, experience and knowledge of maintenance experts and maintenance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 of rea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ossible details can be observed by studying existing maintenance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al design by models an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situations can be tested by simulations of operations e.g. at the workplace or with the help of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37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Maintenance activity vary a 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 have the picture of the activity, and to make appropriate measures, use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ergonomics design appro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Ergonomics is beneficial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help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onomics knowle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onomics approach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aintenance conditions and activities inherently become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good for the oper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good for the organiz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isfaction, motivation and commit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rat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ew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ck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disturbancies and los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human err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ss careles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uent and cost-effectiv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ight operations in the correct way, in a minimum time, with minimum eff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proper ergonomics desig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need for corr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ter, less costs of l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-  TOWARDS EME 2011  -</a:t>
            </a:r>
            <a:br>
              <a:rPr sz="2800"/>
            </a:b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-  examples &amp; experiences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96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round you and you will see a lot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or bad examp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aintenance conditions or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PLEASE REPO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se to the Communication and Promotion Committee of the FEES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year 2010 EME is an introduction to the topic – the next year 2011 EME is focusing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al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national ergonomics societies (from the researchers, ergonomists, occupational health and safety specialists, operators etc.) are 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forwar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con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 comment, suggestion, example, report, review etc.),  to the chair of the Committee, Tommaso Bellandi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tommasobellandi@gmail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1889280"/>
            <a:ext cx="8569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Thank you 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99640" y="1447560"/>
            <a:ext cx="720252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Let us make this world safer and healthier place to work and l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Let us make it with the help of ERGONOMIC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Thank you for your intere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c005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EES-campaign European Month of Ergonomics to promote ergonomics in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S – Federation of European Ergonomics Societies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www.fees-network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What is EME 2010 ?</a:t>
            </a:r>
            <a:r>
              <a:rPr b="1" lang="fi-FI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5760" y="1413000"/>
            <a:ext cx="85806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an month of erg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yearly campaign for promotion of ergonomics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initiated by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deration of European Ergonomic Societies, and implemented by the national ergonomics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 2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ports the yearly Healthy Workplace -campaign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uropean Agency for Safety and Health at Work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10-2011 the topic of this campaign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29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b578b"/>
                </a:solidFill>
                <a:latin typeface="Arial"/>
              </a:rPr>
              <a:t>Safe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 2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cuses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ainten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c0056"/>
                </a:solidFill>
                <a:latin typeface="Arial"/>
              </a:rPr>
              <a:t>Ergonomics – a Key to Safe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Maintenance – a high risk activity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6814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environment and equipment – buildings, workplaces, machines, vehicles etc. - are planned main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ir main purpose – not for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may take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not always in well designed and organized work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takes often place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ger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vironments and processes – e.g. power plants, chemical industry, electron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07120" y="1628640"/>
            <a:ext cx="17859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92720" y="3843360"/>
            <a:ext cx="30956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Typical to maintenance activity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procedures are oft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orly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exper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seldom 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design of systems – real  requirements of maintenance are easily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personnel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lways famili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the local circumstances and haz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is often carried o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arallel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 activities, e.g. the production process – hazardous situations are evid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 routine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unexpected situations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What is ergonomics?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onomics is knowledge and skills for fitting the environment, equipment and activities to peopl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 IE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 of ergonomics, se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www.fees-network.or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im is both to 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-being of peo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o enha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vity of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onomics is optimally consider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design proc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proactive and cost-effectiv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With the help of ergonomics, good  work environments can be crea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A – International Ergonomics Association,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www.ie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Fields of ergonomics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actical application of ergonomics, the following subfields are identifi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500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physical erg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e.g. postures and movements, physical workload, manual material handling, workplac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500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cognitive (or mental) erg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e.g. information processing, mental workload, human-computer interface, planning of give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500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organizational erg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e.g. consideration of work organization, work processes and working hours, development of work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Ergonomics for maintenance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500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Ergonomics is a key to safe mainten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onomics makes maintenance lighter, more fluent and more acceptable – and sa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ergonomics design takes account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-cycle of 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besides their daily operation, also assembly, maintenance, cleaning, reparation, renovation and dismant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ollow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onomics design principles, guidelines and procedures, given in European ergonomics standards (E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intenance conditions and activities can be optimized to the worker/oper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following examples of ergonomics considerations in maintenance activity – presented in order of their nature,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physical, cognitive</a:t>
            </a:r>
            <a:r>
              <a:rPr b="0" lang="en-US" sz="2000" spc="-1" strike="noStrike">
                <a:solidFill>
                  <a:srgbClr val="ac005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organizational   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Physical aspects of maintenance 1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867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Phys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in maintenance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favorable lo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in high places, in narrow spac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wkward pos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ufficient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hand movements or se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free maintenanc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ssive 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ired for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in changing of components, in opening va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ssive physical worklo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om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hanging pumps without hoisting equi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or lighting and thermal conditions, high noise and vibrations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.g. mechanical, electric, 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Physical aspects of maintenance 2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867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Guidelines for physical working conditions exist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an ergonomics (and safety) standard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esign of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3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ageways and stai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 ISO 14122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3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ble postures and fo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-1005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3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openings, for the whole body and body par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 547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3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factors (lighting, temperature etc.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.g. EN 12464,  EN ISO 113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Aft>
                <a:spcPts val="349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Aft>
                <a:spcPts val="499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Aft>
                <a:spcPts val="499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Aft>
                <a:spcPts val="4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are distributed by the national associations for standardiz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or the list of EN ergonomics standards, see als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Aft>
                <a:spcPts val="4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http://www.cen.eu/cen/Sectors/TechnicalCommitteesWorkshops/CENTechnicalCommittees/Pages/Standards.aspx?param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=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6104&amp;title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5"/>
              </a:rPr>
              <a:t>CEN/TC%201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10:38:22Z</dcterms:created>
  <dc:creator>Dietmar Gude</dc:creator>
  <dc:description/>
  <dc:language>en-US</dc:language>
  <cp:lastModifiedBy>oem user</cp:lastModifiedBy>
  <dcterms:modified xsi:type="dcterms:W3CDTF">2010-09-13T06:12:00Z</dcterms:modified>
  <cp:revision>262</cp:revision>
  <dc:subject/>
  <dc:title>Map of Germany</dc:title>
</cp:coreProperties>
</file>