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00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824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576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00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824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0000" y="1014480"/>
            <a:ext cx="7502400" cy="16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68200" y="6400800"/>
            <a:ext cx="7351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EEH  </a:t>
            </a:r>
            <a:r>
              <a:rPr b="0" lang="de-DE" sz="1300" spc="-1" strike="noStrike">
                <a:solidFill>
                  <a:srgbClr val="0e75b8"/>
                </a:solidFill>
                <a:latin typeface="Arial"/>
              </a:rPr>
              <a:t>Európai Ergonómiai Hónap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2010   –   </a:t>
            </a:r>
            <a:r>
              <a:rPr b="0" lang="de-DE" sz="1300" spc="-1" strike="noStrike">
                <a:solidFill>
                  <a:srgbClr val="0e75b8"/>
                </a:solidFill>
                <a:latin typeface="Arial"/>
              </a:rPr>
              <a:t>Ergonómia – a biztonságos karbantartás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e75b8"/>
                </a:solidFill>
                <a:latin typeface="Arial"/>
              </a:rPr>
              <a:t>kulc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477120" y="0"/>
            <a:ext cx="2514600" cy="1285560"/>
            <a:chOff x="6477120" y="0"/>
            <a:chExt cx="2514600" cy="1285560"/>
          </a:xfrm>
        </p:grpSpPr>
        <p:pic>
          <p:nvPicPr>
            <p:cNvPr id="5" name="" descr=""/>
            <p:cNvPicPr/>
            <p:nvPr/>
          </p:nvPicPr>
          <p:blipFill>
            <a:blip r:embed="rId3"/>
            <a:srcRect l="0" t="0" r="68260" b="0"/>
            <a:stretch/>
          </p:blipFill>
          <p:spPr>
            <a:xfrm>
              <a:off x="6477120" y="0"/>
              <a:ext cx="2514600" cy="76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486480" y="765360"/>
              <a:ext cx="24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374d5d"/>
                  </a:solidFill>
                  <a:latin typeface="Tahoma"/>
                  <a:ea typeface="Tahoma"/>
                </a:rPr>
                <a:t>Magyar Ergonómiai </a:t>
              </a:r>
              <a:r>
                <a:rPr b="0" lang="hu-HU" sz="1400" spc="-1" strike="noStrike">
                  <a:solidFill>
                    <a:srgbClr val="374d5d"/>
                  </a:solidFill>
                  <a:latin typeface="Tahoma"/>
                </a:rPr>
                <a:t>T</a:t>
              </a:r>
              <a:r>
                <a:rPr b="0" lang="hu-HU" sz="1400" spc="-1" strike="noStrike">
                  <a:solidFill>
                    <a:srgbClr val="374d5d"/>
                  </a:solidFill>
                  <a:latin typeface="Tahoma"/>
                  <a:ea typeface="Tahoma"/>
                </a:rPr>
                <a:t>ársasá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tommasobellandi@gmail.com" TargetMode="External"/><Relationship Id="rId2" Type="http://schemas.openxmlformats.org/officeDocument/2006/relationships/hyperlink" Target="mailto:met@dsgi.hu" TargetMode="External"/><Relationship Id="rId3" Type="http://schemas.openxmlformats.org/officeDocument/2006/relationships/hyperlink" Target="mailto:met@dsgi.hu" TargetMode="External"/><Relationship Id="rId4" Type="http://schemas.openxmlformats.org/officeDocument/2006/relationships/hyperlink" Target="mailto:met@dsgi.hu" TargetMode="External"/><Relationship Id="rId5" Type="http://schemas.openxmlformats.org/officeDocument/2006/relationships/hyperlink" Target="mailto:met@dsgi.hu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ees-network.org/" TargetMode="External"/><Relationship Id="rId2" Type="http://schemas.openxmlformats.org/officeDocument/2006/relationships/hyperlink" Target="http://met.ergonomiavilaga.hu/" TargetMode="External"/><Relationship Id="rId3" Type="http://schemas.openxmlformats.org/officeDocument/2006/relationships/hyperlink" Target="http://met.ergonomiavilaga.hu/" TargetMode="External"/><Relationship Id="rId4" Type="http://schemas.openxmlformats.org/officeDocument/2006/relationships/hyperlink" Target="http://met.ergonomiavilaga.hu/" TargetMode="External"/><Relationship Id="rId5" Type="http://schemas.openxmlformats.org/officeDocument/2006/relationships/hyperlink" Target="http://met.ergonomiavilaga.hu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ees-network.org/" TargetMode="External"/><Relationship Id="rId2" Type="http://schemas.openxmlformats.org/officeDocument/2006/relationships/hyperlink" Target="http://www.iea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en.eu/cen/Sectors/TechnicalCommitteesWorkshops/CENTechnicalCommittees/Pages/Standards.aspx?param=6104&amp;title=CEN/TC%20122" TargetMode="External"/><Relationship Id="rId2" Type="http://schemas.openxmlformats.org/officeDocument/2006/relationships/hyperlink" Target="http://www.cen.eu/cen/Sectors/TechnicalCommitteesWorkshops/CENTechnicalCommittees/Pages/Standards.aspx?param=6104&amp;title=CEN/TC%20122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76120" y="1523880"/>
            <a:ext cx="8639280" cy="47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4800" spc="-1" strike="noStrike">
                <a:solidFill>
                  <a:srgbClr val="ac0056"/>
                </a:solidFill>
                <a:latin typeface="Arial"/>
              </a:rPr>
              <a:t>EE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4000" spc="-1" strike="noStrike">
                <a:solidFill>
                  <a:srgbClr val="0b578b"/>
                </a:solidFill>
                <a:latin typeface="Arial"/>
              </a:rPr>
              <a:t>Európai Ergonómiai Hón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4000" spc="-1" strike="noStrike">
                <a:solidFill>
                  <a:srgbClr val="0b578b"/>
                </a:solidFill>
                <a:latin typeface="Arial"/>
              </a:rPr>
              <a:t>Október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b578b"/>
                </a:solidFill>
                <a:latin typeface="Arial"/>
              </a:rPr>
              <a:t>Ergonómia – a biztonságos karbantart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b578b"/>
                </a:solidFill>
                <a:latin typeface="Arial"/>
              </a:rPr>
              <a:t>kulc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3429000"/>
            <a:ext cx="4572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53341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55164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e75b8"/>
                </a:solidFill>
                <a:latin typeface="Arial"/>
              </a:rPr>
              <a:t>A karbantartás fizikai szempontjai</a:t>
            </a: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 3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6120" y="1447920"/>
            <a:ext cx="8616960" cy="18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élda a fizikai terhelés csökkentésére és a biztonság javításár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karbantartással érintett objektumok elellenőrző pontjainak elhelyezkedését úgy tervezze meg, hogy minimalizálj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nagyobb távolságokban való mozgást és elősegítse a könnyű és biztonságos karbantartá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felelő felszerelést használjon a mozgatáshoz és a karbantartási pontok eléréséh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felelő eszközöket használjon a karbantartási feladatok ellátásh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73160" y="3295800"/>
            <a:ext cx="203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él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ipikus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ossz test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artá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3284640"/>
            <a:ext cx="136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2. példa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egédeszkö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operá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ámá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1621080" cy="280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3430440"/>
            <a:ext cx="374508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676908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e75b8"/>
                </a:solidFill>
                <a:latin typeface="Arial"/>
              </a:rPr>
              <a:t>A karbantartás kognitív szempontjai</a:t>
            </a: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 1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17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Kognitív 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(</a:t>
            </a: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vagy mentális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)</a:t>
            </a: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problémá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karbantartási munkával kapcsolatb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ossz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zuá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jelzők vagy szimbólumok, a szövegek nem olvashatók a változó környezetb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arbantartási eszközök használata n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u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arbantartási folyamatok nem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ogikus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megjegyezhetők és ellenőrizhető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utasításo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em könnyen érthető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z üzemzavar szituáció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ismeréséhez rosszak az instrukciók nincs ráveze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éb tevékenységek a környezetb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figyelem más felé terelőd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669600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e75b8"/>
                </a:solidFill>
                <a:latin typeface="Arial"/>
              </a:rPr>
              <a:t>A karbantartás kognitív szempontjai</a:t>
            </a: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 2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ac0056"/>
                </a:solidFill>
                <a:latin typeface="Arial"/>
              </a:rPr>
              <a:t>Vannak irányelvek a berendezések és tevékenységek kognitív szempontból történő megfontolásra</a:t>
            </a: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ac0056"/>
                </a:solidFill>
                <a:latin typeface="Arial"/>
              </a:rPr>
              <a:t>pl</a:t>
            </a: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ópai ergonómiai szabvány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következők megtervezéséhez pl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jelzők és szöveges információ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tűmér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 894-s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nformáció bemutatá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 894-s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mberi munkatevékenységek az emberi kognícióval kapcsolatba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 894-s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mberi munkatevékenységek a szellemi munkaterhek ellenőrzéséhez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 ISO 10075-s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s are distributed by the national associations for standardizatio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669600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e75b8"/>
                </a:solidFill>
                <a:latin typeface="Arial"/>
              </a:rPr>
              <a:t>A karbantartás kognitív szempontjai</a:t>
            </a: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 3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367160" cy="21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gy példa a kognitív teljesítmény javítására és a szellemi terhelés csökkentésé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felelő vizuális információ megtervezé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ogikus folyamatok terve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bízható és biztonságos működés megterve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35320" y="3860640"/>
            <a:ext cx="2092320" cy="2227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032360" cy="4484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343400"/>
            <a:ext cx="1735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élda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: inform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áció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gy megemelendő tárgy egyensúlyi pontjáró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464976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600" spc="-1" strike="noStrike">
                <a:solidFill>
                  <a:srgbClr val="0e75b8"/>
                </a:solidFill>
                <a:latin typeface="Arial"/>
              </a:rPr>
              <a:t>A karbantartás szervezésbeli szempontjai</a:t>
            </a:r>
            <a:r>
              <a:rPr b="1" lang="en-US" sz="2600" spc="-1" strike="noStrike">
                <a:solidFill>
                  <a:srgbClr val="0e75b8"/>
                </a:solidFill>
                <a:latin typeface="Arial"/>
              </a:rPr>
              <a:t> 1</a:t>
            </a:r>
            <a:endParaRPr b="1" lang="en-US" sz="26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A karbantartás szervezésbeli szempontja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felelő feladatmegoszl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gép és az operátor közöt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– pl hiányzik a nehéz feladatok megkönnyítéséhez szükséges eszkö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em megfelelő a munkamegosztás az operátorok közöt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– nem kiegyenlített munkaterh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em megfelelő munkaid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űszakok, túlórá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ökkent fizikai és szellemi teljesítmé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ossz kommunikáci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operátorok közöt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ossz iránymutatás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operátorok szám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76908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600" spc="-1" strike="noStrike">
                <a:solidFill>
                  <a:srgbClr val="0e75b8"/>
                </a:solidFill>
                <a:latin typeface="Arial"/>
              </a:rPr>
              <a:t>A karbantartás szervezeti szempontjai</a:t>
            </a:r>
            <a:r>
              <a:rPr b="1" lang="en-US" sz="2600" spc="-1" strike="noStrike">
                <a:solidFill>
                  <a:srgbClr val="0e75b8"/>
                </a:solidFill>
                <a:latin typeface="Arial"/>
              </a:rPr>
              <a:t> 2</a:t>
            </a:r>
            <a:endParaRPr b="1" lang="en-US" sz="26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ergonómiai tervezési elvek alkalmazás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munkaszervezésb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unka feladato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helyes megterve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unkahelyek megszervezés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z egyes operátorok túlterhelésének elkerülése érdek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ó kommunikáció és együttműködés a helyszín valamennyi operátora között- különböző csatornákon keresztül pl. intra, papíralapú, beszédek találkozókon, a karbantartó személyzet bemuta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arbantartó operátorok munkahelyi biztonsággal kapcsolatos ismereteinek a megkövete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arbantartók számára tájékoztatás nyújtása a helyi kockázatokkal kapcsolat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rgonomics design principles, see EN ISO 6385 and EN 614-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e75b8"/>
                </a:solidFill>
                <a:latin typeface="Arial"/>
              </a:rPr>
              <a:t>Ergonómiai megközelítés és módszerek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irányelv nem elé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az ergonómiai szemlélet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s font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észvétel és együttműködés a tervezés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 a karbantartók nézeteinek tapasztalatainak és tudásának a figyelembevé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valós munka tanulmányo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lamennyi lehetséges részletet  fel lehet tárni a meglévő karbantartási tevékenységek megfigyelésé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ísérleti tervezés modellek és tesztek segítségé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3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ritikus szituációkat lehet tesztelni a működések szimulálásával  pl.  A munkahelyen vagy  modellek segítségé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33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A karbantartási tevékenységek nagymértékben különbözn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pben legyünk a tevékenység milyenségével kapcsolatban és megfelelő méreteket vegyünk az 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ergonómiai tervezési szemlél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lkalmazásához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e75b8"/>
                </a:solidFill>
                <a:latin typeface="Arial"/>
              </a:rPr>
              <a:t>Az ergonómia hasznos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rgonómiai ismeretek és szemléletmód alkalmazásával a karbantartási feltételek és tevékenységek inherens módon </a:t>
            </a:r>
            <a:r>
              <a:rPr b="0" lang="hu-HU" sz="2000" spc="-1" strike="noStrike">
                <a:solidFill>
                  <a:srgbClr val="ac0056"/>
                </a:solidFill>
                <a:latin typeface="Arial"/>
              </a:rPr>
              <a:t>jót tesznek az operátornak és jót a szervezetnek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operátor </a:t>
            </a:r>
            <a:r>
              <a:rPr b="0" lang="hu-HU" sz="2000" spc="-1" strike="noStrike">
                <a:solidFill>
                  <a:srgbClr val="ac0056"/>
                </a:solidFill>
                <a:latin typeface="Arial"/>
              </a:rPr>
              <a:t>elégedettebb, motiváltabb és elkötelezette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alesetek aránya csökke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evesebb a beteg állom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sökken az emberi mulasztásból fakadó az üzemzavar és kiesé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ss careles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Zökkenőmentes és költség hatékony karbantartás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felelő működés megfelelő módon minimális idő alatt és minimális erőlködéssel.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felelő ergonómiai tervezés miatt kevesebb szükség van javításokra a későbbiekben,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evesebb a kései változtatások költ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ac0056"/>
                </a:solidFill>
                <a:latin typeface="Arial"/>
              </a:rPr>
              <a:t>Irány az</a:t>
            </a: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 EEH 2011  -</a:t>
            </a:r>
            <a:br>
              <a:rPr sz="2800"/>
            </a:b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-  </a:t>
            </a:r>
            <a:r>
              <a:rPr b="1" lang="hu-HU" sz="2800" spc="-1" strike="noStrike">
                <a:solidFill>
                  <a:srgbClr val="ac0056"/>
                </a:solidFill>
                <a:latin typeface="Arial"/>
              </a:rPr>
              <a:t>példák</a:t>
            </a: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 &amp; </a:t>
            </a:r>
            <a:r>
              <a:rPr b="1" lang="hu-HU" sz="2800" spc="-1" strike="noStrike">
                <a:solidFill>
                  <a:srgbClr val="ac0056"/>
                </a:solidFill>
                <a:latin typeface="Arial"/>
              </a:rPr>
              <a:t>tapasztalatok</a:t>
            </a: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ézzen körül és számos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ó és rossz példá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lát majd a karbantartási feltételekkel kapcsolatb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KÉRJÜK JELNETSE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eket a FEES Kommunikációs és Propaganda bizottságána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dé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10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ben a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EH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éma bevezetésével foglalkozi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övőre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1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EH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arbantartás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gyakorlati vonatkozásaira fókuszá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ért üdvözöljük a nemzeti ergonómiai társaságok részéről érkező tapasztalatokat (kutatók, ergonómusok, munkahelyi egészség és biztonság terén dolgozó szakemberek, operátorok stb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rjük juttassa el hozzájárulásá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éleményét, javaslatát, példáját, jelentését vagy tanulmányát stb.) a Bizottság elnökéhez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mmaso Belland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he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tommasobellandi@gmail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gy magyarul a </a:t>
            </a:r>
            <a:r>
              <a:rPr b="0" lang="hu-HU" sz="20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met</a:t>
            </a:r>
            <a:r>
              <a:rPr b="0" lang="hu-HU" sz="20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2000" spc="-1" strike="noStrike" u="sng">
                <a:solidFill>
                  <a:srgbClr val="ff3399"/>
                </a:solidFill>
                <a:uFillTx/>
                <a:latin typeface="Arial"/>
                <a:hlinkClick r:id="rId4"/>
              </a:rPr>
              <a:t>dsgi</a:t>
            </a:r>
            <a:r>
              <a:rPr b="0" lang="hu-HU" sz="2000" spc="-1" strike="noStrike" u="sng">
                <a:solidFill>
                  <a:srgbClr val="ff3399"/>
                </a:solidFill>
                <a:uFillTx/>
                <a:latin typeface="Arial"/>
                <a:hlinkClick r:id="rId5"/>
              </a:rPr>
              <a:t>.h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cím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1889280"/>
            <a:ext cx="8569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ac0056"/>
                </a:solidFill>
                <a:latin typeface="Arial"/>
              </a:rPr>
              <a:t>Köszönjük</a:t>
            </a: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ac0056"/>
                </a:solidFill>
                <a:latin typeface="Arial"/>
              </a:rPr>
              <a:t>Tegyük ezt a világot egészségesebbé és biztonságosabbá amelyben dolgozunk és élün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ac0056"/>
                </a:solidFill>
                <a:latin typeface="Arial"/>
              </a:rPr>
              <a:t>Tegyük ezt az ERGONÓMIA segítségével</a:t>
            </a: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    </a:t>
            </a:r>
            <a:r>
              <a:rPr b="1" lang="hu-HU" sz="2400" spc="-1" strike="noStrike">
                <a:solidFill>
                  <a:srgbClr val="ac0056"/>
                </a:solidFill>
                <a:latin typeface="Arial"/>
              </a:rPr>
              <a:t>Köszönjük az érdeklődését</a:t>
            </a: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S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mpány Európai Ergonómiai Hónap az ergonómia propagálására Európába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S –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rgonómiai Társaságok Szövetsége 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www.fees-network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gyar Ergonómiai Társaság </a:t>
            </a:r>
            <a:r>
              <a:rPr b="0" lang="hu-HU" sz="20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met</a:t>
            </a:r>
            <a:r>
              <a:rPr b="0" lang="hu-HU" sz="20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.</a:t>
            </a:r>
            <a:r>
              <a:rPr b="0" lang="hu-HU" sz="2000" spc="-1" strike="noStrike" u="sng">
                <a:solidFill>
                  <a:srgbClr val="ff3399"/>
                </a:solidFill>
                <a:uFillTx/>
                <a:latin typeface="Arial"/>
                <a:hlinkClick r:id="rId4"/>
              </a:rPr>
              <a:t>ergonomiavilaga</a:t>
            </a:r>
            <a:r>
              <a:rPr b="0" lang="hu-HU" sz="2000" spc="-1" strike="noStrike" u="sng">
                <a:solidFill>
                  <a:srgbClr val="ff3399"/>
                </a:solidFill>
                <a:uFillTx/>
                <a:latin typeface="Arial"/>
                <a:hlinkClick r:id="rId5"/>
              </a:rPr>
              <a:t>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10920" y="115920"/>
            <a:ext cx="6494760" cy="792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600" spc="-1" strike="noStrike">
                <a:solidFill>
                  <a:srgbClr val="ac0056"/>
                </a:solidFill>
                <a:latin typeface="Arial"/>
              </a:rPr>
              <a:t>Mi az </a:t>
            </a:r>
            <a:r>
              <a:rPr b="1" lang="en-US" sz="3600" spc="-1" strike="noStrike">
                <a:solidFill>
                  <a:srgbClr val="ac0056"/>
                </a:solidFill>
                <a:latin typeface="Arial"/>
              </a:rPr>
              <a:t>EEH 2010?</a:t>
            </a:r>
            <a:r>
              <a:rPr b="1" lang="fi-FI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75760" y="1413000"/>
            <a:ext cx="8580600" cy="49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7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Európai Ergonómiai Hón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H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gonómia évenként megszervezett propagandája Európáb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7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H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zdeményezésével az Európai Ergonómiai Társaságok Szövetsége és a nemzeti ergonómiai társaságok hajtják vég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H 2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mogatja az évente megrendezett Egészséges Munkahely Kampányt 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u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ópai Munkahelyi Biztonság és Egészség Ügynöksége gondozásába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-2011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ben ennek a kampánynak a cí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27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b578b"/>
                </a:solidFill>
                <a:latin typeface="Arial"/>
              </a:rPr>
              <a:t>biztonságos karbantar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H 2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arbantartá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gon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ájára fókuszá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22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ac0056"/>
                </a:solidFill>
                <a:latin typeface="Arial"/>
              </a:rPr>
              <a:t>Ergon</a:t>
            </a:r>
            <a:r>
              <a:rPr b="1" i="1" lang="hu-HU" sz="1800" spc="-1" strike="noStrike">
                <a:solidFill>
                  <a:srgbClr val="ac0056"/>
                </a:solidFill>
                <a:latin typeface="Arial"/>
              </a:rPr>
              <a:t>ó</a:t>
            </a:r>
            <a:r>
              <a:rPr b="1" i="1" lang="en-US" sz="1800" spc="-1" strike="noStrike">
                <a:solidFill>
                  <a:srgbClr val="ac0056"/>
                </a:solidFill>
                <a:latin typeface="Arial"/>
              </a:rPr>
              <a:t>mi</a:t>
            </a:r>
            <a:r>
              <a:rPr b="1" i="1" lang="hu-HU" sz="1800" spc="-1" strike="noStrike">
                <a:solidFill>
                  <a:srgbClr val="ac0056"/>
                </a:solidFill>
                <a:latin typeface="Arial"/>
              </a:rPr>
              <a:t>a</a:t>
            </a:r>
            <a:r>
              <a:rPr b="1" i="1" lang="en-US" sz="1800" spc="-1" strike="noStrike">
                <a:solidFill>
                  <a:srgbClr val="ac0056"/>
                </a:solidFill>
                <a:latin typeface="Arial"/>
              </a:rPr>
              <a:t> – </a:t>
            </a:r>
            <a:r>
              <a:rPr b="1" i="1" lang="hu-HU" sz="1800" spc="-1" strike="noStrike">
                <a:solidFill>
                  <a:srgbClr val="ac0056"/>
                </a:solidFill>
                <a:latin typeface="Arial"/>
              </a:rPr>
              <a:t>a biztonságos karbantartás kulc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e75b8"/>
                </a:solidFill>
                <a:latin typeface="Arial"/>
              </a:rPr>
              <a:t>Karbantartás </a:t>
            </a: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– </a:t>
            </a:r>
            <a:r>
              <a:rPr b="1" lang="hu-HU" sz="2800" spc="-1" strike="noStrike">
                <a:solidFill>
                  <a:srgbClr val="0e75b8"/>
                </a:solidFill>
                <a:latin typeface="Arial"/>
              </a:rPr>
              <a:t>magas kockázatú tevékenység</a:t>
            </a: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68144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örnyezetünk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, eszközeinket – épületeinket, munkahelyeinket, gépeinket és járműveinket elsősorban a fő feladatuk betöltésére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ervezté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em karbantartásr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arbantartás helyszíne lehet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árhol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– nem mindig jól tervezett, szervezett munkahelyeken. A karbantartás gyakran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eszélyes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rnyezetben és veszélyes folyamatok közepette történik – pl. hőerőművek, vegyipar, elektronikus rendszer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07120" y="1628640"/>
            <a:ext cx="1785960" cy="208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92720" y="3843360"/>
            <a:ext cx="30956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e75b8"/>
                </a:solidFill>
                <a:latin typeface="Arial"/>
              </a:rPr>
              <a:t>A karbantartási tevékenységre jellemző tényezők</a:t>
            </a: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arbantartási folyamato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ervezettség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gyakran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gen gyeng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A karbantartók ritkán kapnak szerepet a rendszertervezésben – a reális karbantartási szükségleteket könnyű figyelmen kívül hagy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arbantartók nem mindig vannak tisztában 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elyi kockázatokkal és veszélyekk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arbantartás gyakran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ás tevékenységekkel szimultá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zajlik pl. termelés – a veszélyes szituációk evidensek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arbantartás nem rutintevékenysé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áratlan szituáció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dód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e75b8"/>
                </a:solidFill>
                <a:latin typeface="Arial"/>
              </a:rPr>
              <a:t>Mi az ergonómia</a:t>
            </a: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?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z ergonómia a környezet, a berendezés és az emberi tevékenység elrendezésével kapcsolatos ismeretek és készségek tárháza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ergonóm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fi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ícióját lásd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www.fees-network.or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él egyrészt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avítani az emberek jólétét és emelni a rendszerek termelékenységé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rgonómiát optimálisan figyelembe veszik a Tervezési folyamatoknál, a pro aktív és költség-hatékony alkalmazásokná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ac0056"/>
                </a:solidFill>
                <a:latin typeface="Arial"/>
              </a:rPr>
              <a:t>Az ergonómia segítségével jó munka körülményeket lehet teremteni</a:t>
            </a: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A –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emzetközi Ergonómiai Szövetsé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www.ie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e75b8"/>
                </a:solidFill>
                <a:latin typeface="Arial"/>
              </a:rPr>
              <a:t>Az ergonómia területei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25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rgonómia gyakorlati alkalmazásához a következő alterületeket lehet definiál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500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Fizikai ergonóm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testtartás és mozdulatok, fizikai terhelés, manuális anyagmozgatás, munkahely tervez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500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Kognitív 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(</a:t>
            </a: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vagy mentális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) ergon</a:t>
            </a: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ó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mi</a:t>
            </a: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információ feldolgozás, szellemi terhelés, az ember és a komputer közti interfész, adott információ tervez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500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Szervezési ergonóm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munkaszervezeti megfontolások, munkafolyamatok és munkaidő, munkatevékenységek kidolg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Ergon</a:t>
            </a:r>
            <a:r>
              <a:rPr b="1" lang="hu-HU" sz="2800" spc="-1" strike="noStrike">
                <a:solidFill>
                  <a:srgbClr val="0e75b8"/>
                </a:solidFill>
                <a:latin typeface="Arial"/>
              </a:rPr>
              <a:t>ó</a:t>
            </a: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mi</a:t>
            </a:r>
            <a:r>
              <a:rPr b="1" lang="hu-HU" sz="2800" spc="-1" strike="noStrike">
                <a:solidFill>
                  <a:srgbClr val="0e75b8"/>
                </a:solidFill>
                <a:latin typeface="Arial"/>
              </a:rPr>
              <a:t>a a karbantartásért</a:t>
            </a: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500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ac0056"/>
                </a:solidFill>
                <a:latin typeface="Arial"/>
              </a:rPr>
              <a:t>Az e</a:t>
            </a: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rgon</a:t>
            </a:r>
            <a:r>
              <a:rPr b="1" lang="hu-HU" sz="2400" spc="-1" strike="noStrike">
                <a:solidFill>
                  <a:srgbClr val="ac0056"/>
                </a:solidFill>
                <a:latin typeface="Arial"/>
              </a:rPr>
              <a:t>ómia a biztonságos karbantartás kulcsa</a:t>
            </a: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z ergonómia megkönnyíti zökkenőmentesíti, elviselhetőbbé és biztonságosabbá teszi a karbantartá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ó ergonómiai tervezés figyelembe veszi a rendszerek életciklusát : a napi működésükön kívül, az összeszerelést, a karbantartást, tisztítást, javítást, felújítást és lebontá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rgonómiai tervezés elveit, útmutatásait és folyamatait követve, amelyek az európai szabványokban(EN) rögzítve vannak, a karbantartási feltételek és tevékenységek optimalizálhatók a dolgozó/ operátor szükségletinek megfelelő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d. a következő ergonómiai megfontolásokat a karbantartási tevékenységekben – természetük sorrendjében bemutat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fizikai, kognitív szervezeti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   &gt;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e75b8"/>
                </a:solidFill>
                <a:latin typeface="Arial"/>
              </a:rPr>
              <a:t>A karbantartás fizikai szempontjai</a:t>
            </a: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 1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86788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Fizikai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problémák a karbantartási munka sorá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nytelen helyszíneken való munkavégzé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magasban, szűk helye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okatlan testtartásba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való munkavég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légtelen hely a kéz mozgatásához vagy a látásho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égtelen hely a karbantartásh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agy erőkifejté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ükséges műveletek elvégzés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alkatrészek cseréje a visszacsapó szelepek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úlzott fizikai terhelé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zonyos feladatok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szivattyúcsere emelő berendezés nélkü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ossz fény és hő-viszonyo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agy zaj és vibrációs sz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eszély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trom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egy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0e75b8"/>
                </a:solidFill>
                <a:latin typeface="Arial"/>
              </a:rPr>
              <a:t>A karbantartás fizikai szempontjai </a:t>
            </a: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6120" y="1447560"/>
            <a:ext cx="863928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ac0056"/>
                </a:solidFill>
                <a:latin typeface="Arial"/>
              </a:rPr>
              <a:t>Irányelvek a fizikai munkafeltételekhez pl</a:t>
            </a:r>
            <a:r>
              <a:rPr b="1" lang="en-US" sz="2400" spc="-1" strike="noStrike">
                <a:solidFill>
                  <a:srgbClr val="ac0056"/>
                </a:solidFill>
                <a:latin typeface="Arial"/>
              </a:rPr>
              <a:t>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ópa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rgon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ómia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és biztonság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zabványo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tervezéshez p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3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lyosók és lépcső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 ISO 14122-s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3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fogadható pozitúrák és hatóerő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-1005-s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3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ílások megközelítése az egész test vagy testrészek számá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 547-se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3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rnyezeti tényező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ilágítá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őmérséklet st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.g. EN 12464,  EN ISO 113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Aft>
                <a:spcPts val="349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Aft>
                <a:spcPts val="499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Aft>
                <a:spcPts val="499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Aft>
                <a:spcPts val="4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szabványokat a nemzeti szabványügyi szövetségek terjeszti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EN ergonómiai szabványok listáját megtalálja mé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Aft>
                <a:spcPts val="4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http://www.cen.eu/cen/Sectors/TechnicalCommitteesWorkshops/CENTechnicalCommittees/Pages/Standards.aspx?param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=6104&amp;title=CEN/TC%201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10:38:22Z</dcterms:created>
  <dc:creator>Dietmar Gude</dc:creator>
  <dc:description/>
  <dc:language>en-US</dc:language>
  <cp:lastModifiedBy>oem user</cp:lastModifiedBy>
  <dcterms:modified xsi:type="dcterms:W3CDTF">2010-11-19T12:29:30Z</dcterms:modified>
  <cp:revision>268</cp:revision>
  <dc:subject/>
  <dc:title>Map of Germany</dc:title>
</cp:coreProperties>
</file>