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858060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75760" y="3992400"/>
            <a:ext cx="858060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44756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75760" y="399240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99240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276264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77000" y="1447560"/>
            <a:ext cx="276264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8240" y="1447560"/>
            <a:ext cx="276264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75760" y="3992400"/>
            <a:ext cx="276264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77000" y="3992400"/>
            <a:ext cx="276264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8240" y="3992400"/>
            <a:ext cx="276264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75760" y="1447560"/>
            <a:ext cx="8580600" cy="48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858060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418716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447560"/>
            <a:ext cx="418716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0000" y="1014480"/>
            <a:ext cx="7502400" cy="169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447560"/>
            <a:ext cx="418716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75760" y="399240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418716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44756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99240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44756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75760" y="3992400"/>
            <a:ext cx="858060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bfc"/>
            </a:gs>
            <a:gs pos="50000">
              <a:srgbClr val="a1c2de"/>
            </a:gs>
            <a:gs pos="100000">
              <a:srgbClr val="f9fb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0e75b8"/>
                </a:solidFill>
                <a:latin typeface="Arial"/>
              </a:rPr>
              <a:t>Click to edit the title text format</a:t>
            </a: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68200" y="6400800"/>
            <a:ext cx="86965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75760" y="1447560"/>
            <a:ext cx="858060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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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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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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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3873600" y="100080"/>
            <a:ext cx="1400040" cy="81900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5925960" y="203040"/>
            <a:ext cx="2971800" cy="633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urerg.org/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fees-network.org/" TargetMode="External"/><Relationship Id="rId2" Type="http://schemas.openxmlformats.org/officeDocument/2006/relationships/hyperlink" Target="http://www.fees-network.org/" TargetMode="External"/><Relationship Id="rId3" Type="http://schemas.openxmlformats.org/officeDocument/2006/relationships/hyperlink" Target="http://www.ergonomiayhdistys.fi/" TargetMode="External"/><Relationship Id="rId4" Type="http://schemas.openxmlformats.org/officeDocument/2006/relationships/hyperlink" Target="http://www.ergonomiayhdistys.fi/" TargetMode="External"/><Relationship Id="rId5" Type="http://schemas.openxmlformats.org/officeDocument/2006/relationships/hyperlink" Target="http://www.ergonomiayhdistys.fi/" TargetMode="Externa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bfc"/>
            </a:gs>
            <a:gs pos="50000">
              <a:srgbClr val="a1c2de"/>
            </a:gs>
            <a:gs pos="100000">
              <a:srgbClr val="f9fb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0e75b8"/>
                </a:solidFill>
                <a:latin typeface="Arial"/>
              </a:rPr>
              <a:t> </a:t>
            </a: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76120" y="1523880"/>
            <a:ext cx="8639280" cy="471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ropean Month of Ergono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e75b8"/>
                </a:solidFill>
                <a:latin typeface="Arial"/>
              </a:rPr>
              <a:t>KNOW YOUR ERGONOM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OCTOBER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3429000"/>
            <a:ext cx="457200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6021360"/>
            <a:ext cx="90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Federation of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uropean Ergonomics Societies </a:t>
            </a: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FEES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nish Ergonomics Society </a:t>
            </a: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E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320" y="6381720"/>
            <a:ext cx="90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Ministry of Social Affairs and Health/ Department for Occupational Safety and Health/ Policy Un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bfc"/>
            </a:gs>
            <a:gs pos="50000">
              <a:srgbClr val="a1c2de"/>
            </a:gs>
            <a:gs pos="100000">
              <a:srgbClr val="f9fb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700" spc="-1" strike="noStrike">
                <a:solidFill>
                  <a:srgbClr val="0e75b8"/>
                </a:solidFill>
                <a:latin typeface="Arial"/>
              </a:rPr>
              <a:t>ERGONOMICS EDUCATION IN FINLAND</a:t>
            </a: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858060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80880" indent="-3808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xamples of education that lead to an examination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75000"/>
              <a:buFont typeface="Arial"/>
              <a:buChar char="-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Kuopio University: M.Sc. in Health Sciences, major subject; ergonomic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75000"/>
              <a:buFont typeface="Arial"/>
              <a:buChar char="-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ulu University: M.Sc. in Engineering programme, Department of Industrial Engineering and Management/Work Sciences, major subject; human resources, ergonomics and safet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75000"/>
              <a:buFont typeface="Arial"/>
              <a:buChar char="-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ampere University of Technology: M.Sc. in Technology, Department of Industrial Engineering and Management/ Institute of Occupational Safety Engineering, major subject; safety management, occupational safety engineering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xternal education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75000"/>
              <a:buFont typeface="Arial"/>
              <a:buChar char="-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horter courses also at other universities and collage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75000"/>
              <a:buFont typeface="Arial"/>
              <a:buChar char="-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nnish Institute of Occupational Health arranges courses of the different areas of ergonomics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bfc"/>
            </a:gs>
            <a:gs pos="50000">
              <a:srgbClr val="a1c2de"/>
            </a:gs>
            <a:gs pos="100000">
              <a:srgbClr val="f9fb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700" spc="-1" strike="noStrike">
                <a:solidFill>
                  <a:srgbClr val="0e75b8"/>
                </a:solidFill>
                <a:latin typeface="Arial"/>
              </a:rPr>
              <a:t>ERGONOMISTS IN EUROPE </a:t>
            </a: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858060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possible for the ergonomists to be certified and registered as European ergonomists,  Eur.Er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alification base on the broad education and work practice in ergonomic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ification is valid for five year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 development of the professional skills is requir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 Finnish ergonomists have been cer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: </a:t>
            </a:r>
            <a:r>
              <a:rPr b="0" lang="en-US" sz="2800" spc="-1" strike="noStrike" u="sng">
                <a:solidFill>
                  <a:srgbClr val="ff3399"/>
                </a:solidFill>
                <a:uFillTx/>
                <a:latin typeface="Arial"/>
                <a:hlinkClick r:id="rId1"/>
              </a:rPr>
              <a:t>http://www.eurerg.org/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bfc"/>
            </a:gs>
            <a:gs pos="50000">
              <a:srgbClr val="a1c2de"/>
            </a:gs>
            <a:gs pos="100000">
              <a:srgbClr val="f9fb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700" spc="-1" strike="noStrike">
                <a:solidFill>
                  <a:srgbClr val="0e75b8"/>
                </a:solidFill>
                <a:latin typeface="Arial"/>
              </a:rPr>
              <a:t>OCCUPATIONS FOR ERGONOMISTS </a:t>
            </a: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858060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80880" indent="-380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ject manager, e.g. in the development tas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ach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earch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spector and quality manag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ccupational health care speciali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duct and system design speciali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port for engineering and production tas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bfc"/>
            </a:gs>
            <a:gs pos="50000">
              <a:srgbClr val="a1c2de"/>
            </a:gs>
            <a:gs pos="100000">
              <a:srgbClr val="f9fb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700" spc="-1" strike="noStrike">
                <a:solidFill>
                  <a:srgbClr val="0e75b8"/>
                </a:solidFill>
                <a:latin typeface="Arial"/>
              </a:rPr>
              <a:t>INTERNATIONAL CO-OPERATION</a:t>
            </a: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858060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80880" indent="-380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Finnish Ergonomics Society is a member of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Arial"/>
              <a:buChar char="-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EA (International Ergonomics Association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Arial"/>
              <a:buChar char="-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EES (Federation of the European Ergonomics Societies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Arial"/>
              <a:buChar char="-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S (Nordic Ergonomics Societ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al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Arial"/>
              <a:buChar char="-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rove co-operation between memb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Arial"/>
              <a:buChar char="-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mote good practices on the area of ergonom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bfc"/>
            </a:gs>
            <a:gs pos="50000">
              <a:srgbClr val="a1c2de"/>
            </a:gs>
            <a:gs pos="100000">
              <a:srgbClr val="f9fb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0e75b8"/>
                </a:solidFill>
                <a:latin typeface="Arial"/>
              </a:rPr>
              <a:t> </a:t>
            </a: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6120" y="1523880"/>
            <a:ext cx="8639280" cy="471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ropean Month of Ergono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e75b8"/>
                </a:solidFill>
                <a:latin typeface="Arial"/>
              </a:rPr>
              <a:t>KNOW YOUR ERGONOM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OCTOBER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340000" y="3429000"/>
            <a:ext cx="457200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320" y="6021360"/>
            <a:ext cx="90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Federation of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uropean Ergonomics Societies </a:t>
            </a: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FEES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nish Ergonomics Society </a:t>
            </a: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E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320" y="6381720"/>
            <a:ext cx="90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Ministry of Social Affairs and Health/ Department for Occupational Safety and Health/ Policy Un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bfc"/>
            </a:gs>
            <a:gs pos="50000">
              <a:srgbClr val="a1c2de"/>
            </a:gs>
            <a:gs pos="100000">
              <a:srgbClr val="f9fb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700" spc="-1" strike="noStrike">
                <a:solidFill>
                  <a:srgbClr val="0e75b8"/>
                </a:solidFill>
                <a:latin typeface="Arial"/>
              </a:rPr>
              <a:t>KNOW YOUR ERGONOMICS – Goals  </a:t>
            </a: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580240" cy="49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seminate science of ergonomic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 understanding of different ergonomics ar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 information on ergonomics edu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 discussion concerning topics of ergonomic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ergonomics implementation in practi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bfc"/>
            </a:gs>
            <a:gs pos="50000">
              <a:srgbClr val="a1c2de"/>
            </a:gs>
            <a:gs pos="100000">
              <a:srgbClr val="f9fb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700" spc="-1" strike="noStrike">
                <a:solidFill>
                  <a:srgbClr val="0e75b8"/>
                </a:solidFill>
                <a:latin typeface="Arial"/>
              </a:rPr>
              <a:t>KNOW YOUR ERGONOMICS – Organizers </a:t>
            </a: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580240" cy="49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FEES: Federation 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ropean Ergonomics Societies, </a:t>
            </a:r>
            <a:r>
              <a:rPr b="0" lang="en-US" sz="2800" spc="-1" strike="noStrike" u="sng">
                <a:solidFill>
                  <a:srgbClr val="ff3399"/>
                </a:solidFill>
                <a:uFillTx/>
                <a:latin typeface="Arial"/>
                <a:hlinkClick r:id="rId1"/>
              </a:rPr>
              <a:t>http://www.fees-network.org</a:t>
            </a:r>
            <a:r>
              <a:rPr b="0" lang="en-US" sz="2800" spc="-1" strike="noStrike" u="sng">
                <a:solidFill>
                  <a:srgbClr val="ff3399"/>
                </a:solidFill>
                <a:uFillTx/>
                <a:latin typeface="Arial"/>
                <a:hlinkClick r:id="rId2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Nationa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 – In Finland ERY: Finnish Ergonomics Society, </a:t>
            </a:r>
            <a:r>
              <a:rPr b="0" lang="en-US" sz="2800" spc="-1" strike="noStrike" u="sng">
                <a:solidFill>
                  <a:srgbClr val="ff3399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2800" spc="-1" strike="noStrike" u="sng">
                <a:solidFill>
                  <a:srgbClr val="ff3399"/>
                </a:solidFill>
                <a:uFillTx/>
                <a:latin typeface="Arial"/>
                <a:hlinkClick r:id="rId4"/>
              </a:rPr>
              <a:t>www.ergonomiayhdistys.fi</a:t>
            </a:r>
            <a:r>
              <a:rPr b="0" lang="en-US" sz="2800" spc="-1" strike="noStrike" u="sng">
                <a:solidFill>
                  <a:srgbClr val="ff3399"/>
                </a:solidFill>
                <a:uFillTx/>
                <a:latin typeface="Arial"/>
                <a:hlinkClick r:id="rId5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stry of Social Affairs and Health/ Department for Occupational Safety and Health/ Policy Unit, Fin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bfc"/>
            </a:gs>
            <a:gs pos="50000">
              <a:srgbClr val="a1c2de"/>
            </a:gs>
            <a:gs pos="100000">
              <a:srgbClr val="f9fb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700" spc="-1" strike="noStrike">
                <a:solidFill>
                  <a:srgbClr val="0e75b8"/>
                </a:solidFill>
                <a:latin typeface="Arial"/>
              </a:rPr>
              <a:t>KNOW YOUR ERGONOMICS – Actions </a:t>
            </a: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580240" cy="49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-operation between ergonomists and cl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ities for the members of the ergonomics 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ctures at workplaces, schools, univers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ts for the publ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 communication and information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bfc"/>
            </a:gs>
            <a:gs pos="50000">
              <a:srgbClr val="a1c2de"/>
            </a:gs>
            <a:gs pos="100000">
              <a:srgbClr val="f9fb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700" spc="-1" strike="noStrike">
                <a:solidFill>
                  <a:srgbClr val="0e75b8"/>
                </a:solidFill>
                <a:latin typeface="Arial"/>
              </a:rPr>
              <a:t>KNOW YOUR ERGONOMICS</a:t>
            </a: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580240" cy="49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gonomics is knowledge and skills how to fit  work for wor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gonomics improves human wellbe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gonomics enhances productivity and improves the quality of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bfc"/>
            </a:gs>
            <a:gs pos="50000">
              <a:srgbClr val="a1c2de"/>
            </a:gs>
            <a:gs pos="100000">
              <a:srgbClr val="f9fb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700" spc="-1" strike="noStrike">
                <a:solidFill>
                  <a:srgbClr val="0e75b8"/>
                </a:solidFill>
                <a:latin typeface="Arial"/>
              </a:rPr>
              <a:t>KNOW YOUR ERGONOMICS</a:t>
            </a: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580240" cy="49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gonomics offers solutions that respect human qualities – possibilities and restrictions – and make it possible to utilize person’s individual talents and properties broad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gonomics looks at the working environment from several different points of view: work environment with its different characteristics, work equipments, work organization and organizing the work, task sharing and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bfc"/>
            </a:gs>
            <a:gs pos="50000">
              <a:srgbClr val="a1c2de"/>
            </a:gs>
            <a:gs pos="100000">
              <a:srgbClr val="f9fb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700" spc="-1" strike="noStrike">
                <a:solidFill>
                  <a:srgbClr val="0e75b8"/>
                </a:solidFill>
                <a:latin typeface="Arial"/>
              </a:rPr>
              <a:t>KNOW YOUR ERGONOMICS</a:t>
            </a: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5257800" cy="49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gonomics concerns not only the work environment. Ergonomics is also for creating environment that supports and makes possible human activiti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on safe and just wa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photograph, the lightning of the stairs and well placed handrail make it easier and more safe to use the stairs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icture: Kristiina Juv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602320" y="1484280"/>
            <a:ext cx="32781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bfc"/>
            </a:gs>
            <a:gs pos="50000">
              <a:srgbClr val="a1c2de"/>
            </a:gs>
            <a:gs pos="100000">
              <a:srgbClr val="f9fb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700" spc="-1" strike="noStrike">
                <a:solidFill>
                  <a:srgbClr val="0e75b8"/>
                </a:solidFill>
                <a:latin typeface="Arial"/>
              </a:rPr>
              <a:t>KNOW YOUR ERGONOMICS</a:t>
            </a: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858060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808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rgonomics consists of different ar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hysical ergonomics (materials handling, repetitive movements, workplace layou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gnitive ergonomics (mental workload, decision-making, skilled performance, human-computer intera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rganizational  ergonomics (optimisation of sociotechnical systems, including their organizational structures, policies, and proce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rgonomics is a key for co-opera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bfc"/>
            </a:gs>
            <a:gs pos="50000">
              <a:srgbClr val="a1c2de"/>
            </a:gs>
            <a:gs pos="100000">
              <a:srgbClr val="f9fb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700" spc="-1" strike="noStrike">
                <a:solidFill>
                  <a:srgbClr val="0e75b8"/>
                </a:solidFill>
                <a:latin typeface="Arial"/>
              </a:rPr>
              <a:t>KNOW YOUR ERGONOMICS – Case </a:t>
            </a: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04920" y="1812960"/>
            <a:ext cx="5130720" cy="38480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583240" y="1628640"/>
            <a:ext cx="3309840" cy="4392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60360" y="4767120"/>
            <a:ext cx="50036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al information that is easy to discern from its backgr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7800" y="6014880"/>
            <a:ext cx="26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ictures: Kristiina Ju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8T10:38:22Z</dcterms:created>
  <dc:creator>Dietmar Gude</dc:creator>
  <dc:description/>
  <dc:language>en-US</dc:language>
  <cp:lastModifiedBy>Gude</cp:lastModifiedBy>
  <dcterms:modified xsi:type="dcterms:W3CDTF">2009-09-22T13:07:48Z</dcterms:modified>
  <cp:revision>232</cp:revision>
  <dc:subject/>
  <dc:title>Map of Germany</dc:title>
</cp:coreProperties>
</file>